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27.jpeg" ContentType="image/jpeg"/>
  <Override PartName="/ppt/media/image10.png" ContentType="image/png"/>
  <Override PartName="/ppt/media/image11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288588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00000" y="931068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61B2C1F-C1B3-43D2-9F6E-307844D8FC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96880" y="739800"/>
            <a:ext cx="5477040" cy="365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88480" y="4642920"/>
            <a:ext cx="4891320" cy="439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596880" y="739800"/>
            <a:ext cx="5477040" cy="3651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888480" y="4642920"/>
            <a:ext cx="4891320" cy="439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존경하는 이성기교수님 수업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또 저도 자연대 출신이라서 더욱 반갑읍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596880" y="739800"/>
            <a:ext cx="5477040" cy="3651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88480" y="4642920"/>
            <a:ext cx="4891320" cy="43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여러가지 다른 물리적인 현상들을 나타낼수 있는  계산모델을 디자인하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하고 만드는 것입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물리법칙으로 써 동작을 만들어 보자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596880" y="739800"/>
            <a:ext cx="5477040" cy="3651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88480" y="4642920"/>
            <a:ext cx="4891320" cy="439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여러가지 다른 물리적인 현상들을 나타낼수 있는  계산모델을 디자인하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하고 만드는 것입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물리법칙으로 써 동작을 만들어 보자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9762-A775-4EBC-8107-E473941C8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3800" y="4062600"/>
            <a:ext cx="8407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98CE-CDC2-4242-87EE-B0BA86690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1920" y="191304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3800" y="406260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1920" y="406260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EAC9-98FC-4F23-9FDF-2FDAEE2BA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6360" y="191304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8920" y="191304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3800" y="406260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6360" y="406260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8920" y="406260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A899-29B6-446A-AF72-01112ECEE7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AB0C-BFEC-4EF0-858B-E0E18563AB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158A-03F5-4C37-9114-4978113B7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410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1920" y="1913040"/>
            <a:ext cx="410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8DAB-0FCB-4946-981B-4304EBEE5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495A-2268-45D0-A6EE-2203BCA71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7760" y="744120"/>
            <a:ext cx="7213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773B-6D7E-4016-91F1-AF7CFCEC9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1920" y="1913040"/>
            <a:ext cx="410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3800" y="406260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50B6-D01F-49BD-8DD2-887DBE13E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410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1920" y="191304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1920" y="406260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649B-EEA5-4D13-9BA7-94127251A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1920" y="191304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3800" y="4062600"/>
            <a:ext cx="8407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C982-5390-4E83-8A10-83F0C589D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6280" y="428760"/>
            <a:ext cx="9201240" cy="6048360"/>
          </a:xfrm>
          <a:prstGeom prst="rect">
            <a:avLst/>
          </a:prstGeom>
          <a:gradFill rotWithShape="0">
            <a:gsLst>
              <a:gs pos="0">
                <a:srgbClr val="0b44fb"/>
              </a:gs>
              <a:gs pos="100000">
                <a:srgbClr val="698c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402120" indent="-3013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754200" indent="-2509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3" marL="1206720" indent="-3013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9200" indent="-2512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Book Antiqua"/>
              <a:buChar char="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9200" indent="-2512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Book Antiqua"/>
              <a:buChar char="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9200" indent="-2512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Book Antiqua"/>
              <a:buChar char="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-1143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9E4A-F671-4F18-891C-4D0AC734DCD4}" type="slidenum">
              <a:rPr b="1" lang="ko-K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467480" y="6461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O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ogsoft.com/" TargetMode="External"/><Relationship Id="rId2" Type="http://schemas.openxmlformats.org/officeDocument/2006/relationships/hyperlink" Target="http://www.kogsoft.com/" TargetMode="External"/><Relationship Id="rId3" Type="http://schemas.openxmlformats.org/officeDocument/2006/relationships/hyperlink" Target="http://www.kogsoft.com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OG </a:t>
            </a:r>
            <a:br>
              <a:rPr sz="2000"/>
            </a:br>
            <a:r>
              <a:rPr b="1" lang="en-US" sz="2000" spc="-1" strike="noStrike" u="sng">
                <a:solidFill>
                  <a:srgbClr val="fe9b03"/>
                </a:solidFill>
                <a:uFillTx/>
                <a:latin typeface="Arial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e9b03"/>
                </a:solidFill>
                <a:uFillTx/>
                <a:latin typeface="Arial"/>
                <a:hlinkClick r:id="rId2"/>
              </a:rPr>
              <a:t>kogsoft</a:t>
            </a:r>
            <a:r>
              <a:rPr b="1" lang="en-US" sz="2000" spc="-1" strike="noStrike" u="sng">
                <a:solidFill>
                  <a:srgbClr val="fe9b03"/>
                </a:solidFill>
                <a:uFillTx/>
                <a:latin typeface="Arial"/>
                <a:hlinkClick r:id="rId3"/>
              </a:rPr>
              <a:t>.com</a:t>
            </a:r>
            <a:br>
              <a:rPr sz="2000"/>
            </a:br>
            <a:br>
              <a:rPr sz="2000"/>
            </a:br>
            <a:r>
              <a:rPr b="1" lang="ko-KR" sz="2000" spc="-1" strike="noStrike">
                <a:solidFill>
                  <a:srgbClr val="ffffff"/>
                </a:solidFill>
                <a:latin typeface="Times New Roman"/>
              </a:rPr>
              <a:t>이 종 원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프로그래밍은 매우 중요합니다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treme Rally </a:t>
            </a:r>
            <a:r>
              <a:rPr b="1" lang="ko-KR" sz="2400" spc="-1" strike="noStrike">
                <a:solidFill>
                  <a:srgbClr val="ffffff"/>
                </a:solidFill>
                <a:latin typeface="Times New Roman"/>
              </a:rPr>
              <a:t>의 프로그래밍 실제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B96A-EC8E-4AFD-B227-22F48EF55E1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211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ssemble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752480" y="1981080"/>
            <a:ext cx="6514920" cy="1092600"/>
            <a:chOff x="1752480" y="1981080"/>
            <a:chExt cx="6514920" cy="109260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837800" y="2035080"/>
              <a:ext cx="120024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4409640" y="2035080"/>
              <a:ext cx="120024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5695560" y="2035080"/>
              <a:ext cx="120024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6981480" y="2035080"/>
              <a:ext cx="1200240" cy="61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3123720" y="2035080"/>
              <a:ext cx="1200240" cy="6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752480" y="1981080"/>
              <a:ext cx="6514920" cy="1066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36480" y="276660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hoosing C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52480" y="2819160"/>
              <a:ext cx="651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52480" y="3200400"/>
            <a:ext cx="6514920" cy="3300840"/>
            <a:chOff x="1752480" y="3200400"/>
            <a:chExt cx="6514920" cy="3300840"/>
          </a:xfrm>
        </p:grpSpPr>
        <p:sp>
          <p:nvSpPr>
            <p:cNvPr id="75" name=""/>
            <p:cNvSpPr/>
            <p:nvPr/>
          </p:nvSpPr>
          <p:spPr>
            <a:xfrm>
              <a:off x="1752480" y="3200400"/>
              <a:ext cx="6514920" cy="3276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35760" y="6194160"/>
              <a:ext cx="158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ssemble/ Tune-u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52480" y="6205320"/>
              <a:ext cx="651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6"/>
            <a:stretch/>
          </p:blipFill>
          <p:spPr>
            <a:xfrm>
              <a:off x="3809880" y="4267080"/>
              <a:ext cx="1971360" cy="9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7"/>
            <a:stretch/>
          </p:blipFill>
          <p:spPr>
            <a:xfrm>
              <a:off x="7324560" y="3657240"/>
              <a:ext cx="83232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8"/>
            <a:stretch/>
          </p:blipFill>
          <p:spPr>
            <a:xfrm>
              <a:off x="4152600" y="3200400"/>
              <a:ext cx="1405800" cy="74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9"/>
            <a:stretch/>
          </p:blipFill>
          <p:spPr>
            <a:xfrm>
              <a:off x="1752480" y="4724280"/>
              <a:ext cx="1346400" cy="86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0"/>
            <a:stretch/>
          </p:blipFill>
          <p:spPr>
            <a:xfrm>
              <a:off x="7067520" y="4571640"/>
              <a:ext cx="94464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11"/>
            <a:stretch/>
          </p:blipFill>
          <p:spPr>
            <a:xfrm>
              <a:off x="5867280" y="3200400"/>
              <a:ext cx="128592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2"/>
            <a:stretch/>
          </p:blipFill>
          <p:spPr>
            <a:xfrm>
              <a:off x="1923480" y="3276360"/>
              <a:ext cx="162900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13"/>
            <a:stretch/>
          </p:blipFill>
          <p:spPr>
            <a:xfrm>
              <a:off x="2009520" y="5562360"/>
              <a:ext cx="180000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14"/>
            <a:stretch/>
          </p:blipFill>
          <p:spPr>
            <a:xfrm>
              <a:off x="6210000" y="5562360"/>
              <a:ext cx="145764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H="1">
              <a:off x="5524200" y="4190760"/>
              <a:ext cx="1800000" cy="38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4581000" y="4724280"/>
              <a:ext cx="2485800" cy="22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4495680" y="4876200"/>
              <a:ext cx="1714320" cy="83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237920" y="3962160"/>
              <a:ext cx="1629000" cy="60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152240" y="3962160"/>
              <a:ext cx="42876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52480" y="4038480"/>
              <a:ext cx="514080" cy="60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038400" y="4800240"/>
              <a:ext cx="942840" cy="22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552480" y="4952880"/>
              <a:ext cx="514080" cy="60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315040" y="2743200"/>
            <a:ext cx="257040" cy="1522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A3C9-32E8-4367-AB8F-034C52A3B9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9200" y="744120"/>
            <a:ext cx="721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Specially Designed Cars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515280" cy="42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EFB9-C61A-4669-A2FA-BA3F8415F3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9200" y="744480"/>
            <a:ext cx="7211880" cy="70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Extraordinary Areas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71480" y="2185920"/>
            <a:ext cx="2743200" cy="1598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657600" y="2133720"/>
            <a:ext cx="2803680" cy="163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542960" y="4343400"/>
            <a:ext cx="28098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915160" y="4419720"/>
            <a:ext cx="2571480" cy="147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600960" y="2133720"/>
            <a:ext cx="3000240" cy="171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25280" y="190512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09640" y="171288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th 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68000" y="160020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86320" y="399888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van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0560" y="407520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tlefi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0EEE-15F8-4FDF-AA1E-9240860419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9200" y="744480"/>
            <a:ext cx="7211880" cy="70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Events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animal2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3171960" cy="2114640"/>
          </a:xfrm>
          <a:prstGeom prst="rect">
            <a:avLst/>
          </a:prstGeom>
          <a:ln w="0">
            <a:noFill/>
          </a:ln>
        </p:spPr>
      </p:pic>
      <p:pic>
        <p:nvPicPr>
          <p:cNvPr id="111" name="avalanche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3343320" cy="2228760"/>
          </a:xfrm>
          <a:prstGeom prst="rect">
            <a:avLst/>
          </a:prstGeom>
          <a:ln w="0">
            <a:noFill/>
          </a:ln>
        </p:spPr>
      </p:pic>
      <p:pic>
        <p:nvPicPr>
          <p:cNvPr id="112" name="bridge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3257280" cy="2057400"/>
          </a:xfrm>
          <a:prstGeom prst="rect">
            <a:avLst/>
          </a:prstGeom>
          <a:ln w="0">
            <a:noFill/>
          </a:ln>
        </p:spPr>
      </p:pic>
      <p:pic>
        <p:nvPicPr>
          <p:cNvPr id="113" name="citywar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343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F50F-1FE1-4F94-A0CF-D1B4CECE17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211880" cy="7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Events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magma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308592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rock-falling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3000240" cy="2000160"/>
          </a:xfrm>
          <a:prstGeom prst="rect">
            <a:avLst/>
          </a:prstGeom>
          <a:ln w="0">
            <a:noFill/>
          </a:ln>
        </p:spPr>
      </p:pic>
      <p:pic>
        <p:nvPicPr>
          <p:cNvPr id="117" name="tornado" descr=""/>
          <p:cNvPicPr/>
          <p:nvPr/>
        </p:nvPicPr>
        <p:blipFill>
          <a:blip r:embed="rId3"/>
          <a:stretch/>
        </p:blipFill>
        <p:spPr>
          <a:xfrm>
            <a:off x="1114560" y="3886200"/>
            <a:ext cx="334332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volcano" descr=""/>
          <p:cNvPicPr/>
          <p:nvPr/>
        </p:nvPicPr>
        <p:blipFill>
          <a:blip r:embed="rId4"/>
          <a:stretch/>
        </p:blipFill>
        <p:spPr>
          <a:xfrm>
            <a:off x="5486400" y="3886200"/>
            <a:ext cx="3086280" cy="20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B98D-8676-43C3-9A33-2DD6EEF762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DE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GDE is consisted with three components: CET(Customized Data Exporting Tool), SDL(Scene Description Language) and GameLibrary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Users use 3DMax to define environment and objects and DET generates SDL. Users make games with the SDL and GameLibray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68F7-7945-4A79-98C5-9F639F4847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DE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Your company do not need to maintain complicated development tools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You can use all functions of 3DMax as your editors for games without any programming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F9E8-2AC6-44EE-AA25-D43BBAC5B8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2819520"/>
            <a:ext cx="2590920" cy="1676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3124080"/>
            <a:ext cx="1600200" cy="1067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n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2971800"/>
            <a:ext cx="1447920" cy="228600"/>
          </a:xfrm>
          <a:prstGeom prst="rect">
            <a:avLst/>
          </a:prstGeom>
          <a:solidFill>
            <a:srgbClr val="febf0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Libr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2666880"/>
            <a:ext cx="1447560" cy="228600"/>
          </a:xfrm>
          <a:prstGeom prst="rect">
            <a:avLst/>
          </a:prstGeom>
          <a:solidFill>
            <a:srgbClr val="febf0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DS MA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352680"/>
            <a:ext cx="91440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D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3581280"/>
            <a:ext cx="990720" cy="762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xporting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ustomized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o eng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3429000"/>
            <a:ext cx="762120" cy="228600"/>
          </a:xfrm>
          <a:prstGeom prst="rect">
            <a:avLst/>
          </a:prstGeom>
          <a:solidFill>
            <a:srgbClr val="febf0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5943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3124080"/>
            <a:ext cx="1523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deling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ame ed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evel edit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114800" y="3657240"/>
            <a:ext cx="685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3657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2920" y="419112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666520" y="4876920"/>
            <a:ext cx="449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49532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4876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AFF1-5DEC-4EBF-84F6-A50BC9F0A7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Demo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552456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19720" y="2819520"/>
            <a:ext cx="1143000" cy="1066680"/>
          </a:xfrm>
          <a:prstGeom prst="ellipse">
            <a:avLst/>
          </a:prstGeom>
          <a:noFill/>
          <a:ln w="2844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53040" y="4092480"/>
            <a:ext cx="304920" cy="304920"/>
          </a:xfrm>
          <a:prstGeom prst="ellipse">
            <a:avLst/>
          </a:prstGeom>
          <a:noFill/>
          <a:ln w="2844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41880" y="5322960"/>
            <a:ext cx="304920" cy="304560"/>
          </a:xfrm>
          <a:prstGeom prst="ellipse">
            <a:avLst/>
          </a:prstGeom>
          <a:noFill/>
          <a:ln w="2844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562720" y="2666880"/>
            <a:ext cx="1523880" cy="533520"/>
          </a:xfrm>
          <a:prstGeom prst="line">
            <a:avLst/>
          </a:prstGeom>
          <a:ln w="28440">
            <a:solidFill>
              <a:srgbClr val="d931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324480" y="3962160"/>
            <a:ext cx="762120" cy="228600"/>
          </a:xfrm>
          <a:prstGeom prst="line">
            <a:avLst/>
          </a:prstGeom>
          <a:ln w="28440">
            <a:solidFill>
              <a:srgbClr val="d931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324480" y="5105520"/>
            <a:ext cx="762120" cy="304560"/>
          </a:xfrm>
          <a:prstGeom prst="line">
            <a:avLst/>
          </a:prstGeom>
          <a:ln w="28440">
            <a:solidFill>
              <a:srgbClr val="d931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06040" y="245268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cing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6553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17920" y="373392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ting objec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4520" y="48909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ing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D3AF-AD62-4188-84AE-9CA5F3B053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What is PBM?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Specify, design, control and build 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Times New Roman"/>
              </a:rPr>
              <a:t>computational models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of heterogeneous physical systems of objects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Generate motions based on physical principles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43600" y="91440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25AD-8AE2-4FA6-A3F7-B39934CF75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o-KR" sz="3700" spc="-1" strike="noStrike">
                <a:solidFill>
                  <a:srgbClr val="ffffff"/>
                </a:solidFill>
                <a:latin typeface="Times New Roman"/>
              </a:rPr>
              <a:t>내용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61976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프로그래밍 총론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게임 제작에서의 프로그래밍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Extreme Rally </a:t>
            </a: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에서의 프로그래밍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GDE (Game Development Environment)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LOD (Level of Detail) for terrian data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물리엔진 </a:t>
            </a: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Isaac)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6F2A-CF6B-4556-AEF8-586EEB993C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Why PBM ?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Motions of World follow Physical Principles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If you want motions in this word, follow the physical principles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4E8D-44C8-4F51-953D-E032DF6FE7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Motion by F = ma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Fundamental Law of motion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301E-D824-47A4-9ED7-47E97AA525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0680" y="4478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515A-9239-4551-8448-CCCB31C466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Collision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Applying Impact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486400" y="342900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76D2-1176-4910-9469-C394FD2309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Deformable Objects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Spring, FEM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365760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7F1C-696A-4D37-9CC9-D20D73F317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Procedural PBM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Applying Procedural method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3810240" cy="2355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4038480" cy="247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3B17-3FF4-4B2D-929B-6485D0BAD4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700" spc="-1" strike="noStrike">
                <a:solidFill>
                  <a:srgbClr val="ffffff"/>
                </a:solidFill>
                <a:latin typeface="Times New Roman"/>
              </a:rPr>
              <a:t>프로그래밍 총론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프로그래밍은 무언가 의미 있는 복잡한 것을 만들 수 있게 합니다</a:t>
            </a: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프로그래밍은 매우 중요합니다</a:t>
            </a: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DADD-DA7E-4876-A6DF-61102B6E71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ko-KR" sz="3700" spc="-1" strike="noStrike">
                <a:solidFill>
                  <a:srgbClr val="ffffff"/>
                </a:solidFill>
                <a:latin typeface="Times New Roman"/>
              </a:rPr>
              <a:t>게임제작에서 프로그래밍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게임은 많은 프로그램중에 하나입니다</a:t>
            </a: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그러므로 게임은 프로래밍에 의해 최종적으로 만들어 집니다</a:t>
            </a: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기획한것</a:t>
            </a: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스토리</a:t>
            </a: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디자인</a:t>
            </a: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데이터</a:t>
            </a: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들이 최종적으로 프로그래밍에 의해 만들어집니다</a:t>
            </a: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E5E2-A299-409F-A750-9D6E198637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o-KR" sz="3700" spc="-1" strike="noStrike">
                <a:solidFill>
                  <a:srgbClr val="ffffff"/>
                </a:solidFill>
                <a:latin typeface="Times New Roman"/>
              </a:rPr>
              <a:t>게임제작에서 프로그래밍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그래픽스 프로그래밍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사운드 프로그래밍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넷트웍 프로그래밍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유저인터페이스 프로그래밍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소프터웨어 디자인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8A5F-AB56-4244-A15B-EEA176448F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Extreme Rally </a:t>
            </a:r>
            <a:r>
              <a:rPr b="1" lang="ko-KR" sz="3700" spc="-1" strike="noStrike">
                <a:solidFill>
                  <a:srgbClr val="ffffff"/>
                </a:solidFill>
                <a:latin typeface="Times New Roman"/>
              </a:rPr>
              <a:t>에서의 프로그래밍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Extreme Rally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GDE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LOD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9857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ffffff"/>
                </a:solidFill>
                <a:latin typeface="Times New Roman"/>
              </a:rPr>
              <a:t>물리엔진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47F3-EFA0-4CEA-BAB5-20788C0FDF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7760" y="74412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Extreme Rally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BE1D-A277-41C8-BD5A-5E8E5F7C6D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9200" y="744120"/>
            <a:ext cx="721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Story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Rally in  jungles, deserts, savanna, north pole and battle fields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Let users experience special areas and realistic driving of 4x4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Overcoming obstacles and difficult environments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BB4A-0217-4B69-8C55-927997E108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9200" y="744120"/>
            <a:ext cx="721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Major Distinctions</a:t>
            </a:r>
            <a:endParaRPr b="1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93800" y="19130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In addition to speed</a:t>
            </a:r>
            <a:r>
              <a:rPr b="1" i="1" lang="en-US" sz="31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overcoming obstacle environment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Applying 4x4 vehicle dynamics.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Realistic events using dynamic simulations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Randomly generated maps</a:t>
            </a:r>
            <a:endParaRPr b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CC05-4AF3-4649-909D-0CEA5CD8F2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03T21:41:44Z</dcterms:created>
  <dc:creator>James Kwangjune Hahn</dc:creator>
  <dc:description/>
  <dc:language>en-US</dc:language>
  <cp:lastModifiedBy>박재경</cp:lastModifiedBy>
  <cp:lastPrinted>1999-11-05T00:39:06Z</cp:lastPrinted>
  <dcterms:modified xsi:type="dcterms:W3CDTF">2001-04-19T02:19:39Z</dcterms:modified>
  <cp:revision>126</cp:revision>
  <dc:subject/>
  <dc:title>No Slide Title</dc:title>
</cp:coreProperties>
</file>