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030F-B45A-4C9E-AF87-7308A2EBA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3C2A-220E-4E37-978D-6341DA79A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E9D7-F53A-4167-B925-11F44A487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F030-6541-4080-A8D8-16166B2C5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7B65-8EE0-43B6-916E-3A65A6070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30D8-EA31-476B-81F7-E7DEAB1FD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ACC9-8F3D-4A1D-9088-8F2DA108D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A3D4-10A3-436F-865A-9199559DC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4BE8-E9D9-402E-8073-64DB4C7BB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0547-95F4-4AEA-996A-188D3F8F6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4A4A-AB44-4641-8265-DD9BDC78F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149C-13C8-47EA-8D0A-CAA6B8E55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슬라이드마스터_가로(여백)" descr=""/>
          <p:cNvPicPr/>
          <p:nvPr/>
        </p:nvPicPr>
        <p:blipFill>
          <a:blip r:embed="rId2"/>
          <a:stretch/>
        </p:blipFill>
        <p:spPr>
          <a:xfrm>
            <a:off x="0" y="154080"/>
            <a:ext cx="9144000" cy="67039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3657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49E6F-FD8C-4F49-B70F-1A63EFE49E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634440" y="6216480"/>
            <a:ext cx="234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Impact"/>
              </a:rPr>
              <a:t>http://www.rhaon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243360" y="6216480"/>
            <a:ext cx="247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Impact"/>
              </a:rPr>
              <a:t>http://www.gaiania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371600" y="45720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HY견고딕"/>
                <a:ea typeface="HY견고딕"/>
              </a:rPr>
              <a:t>Korean Game Lead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로고밑에글씨" descr=""/>
          <p:cNvPicPr/>
          <p:nvPr/>
        </p:nvPicPr>
        <p:blipFill>
          <a:blip r:embed="rId1"/>
          <a:stretch/>
        </p:blipFill>
        <p:spPr>
          <a:xfrm>
            <a:off x="2743200" y="2438280"/>
            <a:ext cx="3560760" cy="2205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23960" y="762120"/>
            <a:ext cx="7696080" cy="6094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HY견고딕"/>
                <a:ea typeface="HY견고딕"/>
              </a:rPr>
              <a:t>게임비지니스 성공전략세미나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32560" y="5256360"/>
            <a:ext cx="148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2001. 4. 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000000"/>
                </a:solidFill>
                <a:latin typeface="Impact"/>
                <a:ea typeface="HY견고딕"/>
              </a:rPr>
              <a:t>1. </a:t>
            </a:r>
            <a:r>
              <a:rPr b="0" lang="ko-KR" sz="3800" spc="-1" strike="noStrike">
                <a:solidFill>
                  <a:srgbClr val="000000"/>
                </a:solidFill>
                <a:latin typeface="Impact"/>
                <a:ea typeface="HY견고딕"/>
              </a:rPr>
              <a:t>가이아니아 소개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000000"/>
                </a:solidFill>
                <a:latin typeface="Impact"/>
                <a:ea typeface="HY견고딕"/>
              </a:rPr>
              <a:t>2. </a:t>
            </a:r>
            <a:r>
              <a:rPr b="0" lang="ko-KR" sz="3800" spc="-1" strike="noStrike">
                <a:solidFill>
                  <a:srgbClr val="000000"/>
                </a:solidFill>
                <a:latin typeface="Impact"/>
                <a:ea typeface="HY견고딕"/>
              </a:rPr>
              <a:t>가이아니아의 특징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000000"/>
                </a:solidFill>
                <a:latin typeface="Impact"/>
                <a:ea typeface="HY견고딕"/>
              </a:rPr>
              <a:t>3. </a:t>
            </a:r>
            <a:r>
              <a:rPr b="0" lang="ko-KR" sz="3800" spc="-1" strike="noStrike">
                <a:solidFill>
                  <a:srgbClr val="000000"/>
                </a:solidFill>
                <a:latin typeface="Impact"/>
                <a:ea typeface="HY견고딕"/>
              </a:rPr>
              <a:t>기타 동일 장르 게임과의 비교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23960" y="761760"/>
            <a:ext cx="7696080" cy="6094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HY견고딕"/>
                <a:ea typeface="HY견고딕"/>
              </a:rPr>
              <a:t>목 차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23960" y="761760"/>
            <a:ext cx="7696080" cy="6094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SzPct val="10283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ko-KR" sz="3500" spc="-1" strike="noStrike">
                <a:solidFill>
                  <a:srgbClr val="000000"/>
                </a:solidFill>
                <a:latin typeface="HY견고딕"/>
                <a:ea typeface="HY견고딕"/>
              </a:rPr>
              <a:t>가이아니아 소개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Impact"/>
              </a:rPr>
              <a:t>  ‘</a:t>
            </a:r>
            <a:r>
              <a:rPr b="0" lang="ko-KR" sz="3000" spc="-1" strike="noStrike">
                <a:solidFill>
                  <a:srgbClr val="000000"/>
                </a:solidFill>
                <a:latin typeface="Impact"/>
              </a:rPr>
              <a:t>GAIANIA Episode-l, Empire of Chaos’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굴림"/>
              </a:rPr>
              <a:t>최초기획 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</a:rPr>
              <a:t>: 1999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</a:rPr>
              <a:t>10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</a:rPr>
              <a:t>월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굴림"/>
              </a:rPr>
              <a:t>출시예정 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</a:rPr>
              <a:t>:</a:t>
            </a:r>
            <a:r>
              <a:rPr b="1" lang="ko-KR" sz="25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</a:rPr>
              <a:t>2001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</a:rPr>
              <a:t>월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굴림"/>
              </a:rPr>
              <a:t>장르 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500" spc="-1" strike="noStrike">
                <a:solidFill>
                  <a:srgbClr val="000000"/>
                </a:solidFill>
                <a:latin typeface="굴림"/>
              </a:rPr>
              <a:t>Full 3D RT RP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000000"/>
                </a:solidFill>
                <a:latin typeface="굴림"/>
              </a:rPr>
              <a:t>           </a:t>
            </a:r>
            <a:r>
              <a:rPr b="1" lang="ko-KR" sz="2500" spc="-1" strike="noStrike">
                <a:solidFill>
                  <a:srgbClr val="000000"/>
                </a:solidFill>
                <a:latin typeface="굴림"/>
              </a:rPr>
              <a:t>(Real-Time Role Playing Strategy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000000"/>
                </a:solidFill>
                <a:latin typeface="굴림"/>
              </a:rPr>
              <a:t>            </a:t>
            </a:r>
            <a:r>
              <a:rPr b="1" lang="ko-KR" sz="2500" spc="-1" strike="noStrike">
                <a:solidFill>
                  <a:srgbClr val="000000"/>
                </a:solidFill>
                <a:latin typeface="굴림"/>
              </a:rPr>
              <a:t>실시간 전략 롤플레잉 게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굴림"/>
              </a:rPr>
              <a:t>개발진척도 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</a:rPr>
              <a:t>: 60-70%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굴림"/>
              </a:rPr>
              <a:t>패키지 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</a:rPr>
              <a:t>CD 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</a:rPr>
              <a:t>및 무료 배틀넷 제공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23960" y="761760"/>
            <a:ext cx="7696080" cy="6094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SzPct val="10283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ko-KR" sz="3500" spc="-1" strike="noStrike">
                <a:solidFill>
                  <a:srgbClr val="000000"/>
                </a:solidFill>
                <a:latin typeface="HY견고딕"/>
                <a:ea typeface="HY견고딕"/>
              </a:rPr>
              <a:t>가이아니아의 장점</a:t>
            </a:r>
            <a:r>
              <a:rPr b="0" lang="ko-KR" sz="3500" spc="-1" strike="noStrike">
                <a:solidFill>
                  <a:srgbClr val="000000"/>
                </a:solidFill>
                <a:latin typeface="HY견고딕"/>
                <a:ea typeface="HY견고딕"/>
              </a:rPr>
              <a:t>(1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Impact"/>
              </a:rPr>
              <a:t>  </a:t>
            </a:r>
            <a:r>
              <a:rPr b="1" lang="zh-CN" sz="3000" spc="-1" strike="noStrike">
                <a:solidFill>
                  <a:srgbClr val="000000"/>
                </a:solidFill>
                <a:latin typeface="Impact"/>
              </a:rPr>
              <a:t>기술적인 장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굴림"/>
              </a:rPr>
              <a:t>자체 개발한 </a:t>
            </a:r>
            <a:r>
              <a:rPr b="0" lang="en-US" sz="2500" spc="-1" strike="noStrike">
                <a:solidFill>
                  <a:srgbClr val="000000"/>
                </a:solidFill>
                <a:latin typeface="굴림"/>
              </a:rPr>
              <a:t>DirectX 8.0 </a:t>
            </a:r>
            <a:r>
              <a:rPr b="0" lang="zh-CN" sz="2500" spc="-1" strike="noStrike">
                <a:solidFill>
                  <a:srgbClr val="000000"/>
                </a:solidFill>
                <a:latin typeface="굴림"/>
              </a:rPr>
              <a:t>기반의 삼차원 게임엔진</a:t>
            </a:r>
            <a:r>
              <a:rPr b="0" lang="en-US" sz="2500" spc="-1" strike="noStrike">
                <a:solidFill>
                  <a:srgbClr val="000000"/>
                </a:solidFill>
                <a:latin typeface="굴림"/>
              </a:rPr>
              <a:t>(H3D) </a:t>
            </a:r>
            <a:r>
              <a:rPr b="0" lang="zh-CN" sz="2500" spc="-1" strike="noStrike">
                <a:solidFill>
                  <a:srgbClr val="000000"/>
                </a:solidFill>
                <a:latin typeface="굴림"/>
              </a:rPr>
              <a:t>탑재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800280" y="3124080"/>
            <a:ext cx="7518240" cy="2565360"/>
            <a:chOff x="800280" y="3124080"/>
            <a:chExt cx="7518240" cy="2565360"/>
          </a:xfrm>
        </p:grpSpPr>
        <p:sp>
          <p:nvSpPr>
            <p:cNvPr id="55" name=""/>
            <p:cNvSpPr/>
            <p:nvPr/>
          </p:nvSpPr>
          <p:spPr>
            <a:xfrm>
              <a:off x="3695760" y="3124080"/>
              <a:ext cx="1752480" cy="45720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Impact"/>
                </a:rPr>
                <a:t>H3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600200" y="4012920"/>
              <a:ext cx="1981080" cy="45720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Impact"/>
                  <a:ea typeface="HY견고딕"/>
                </a:rPr>
                <a:t>게임구동엔진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651640" y="4012920"/>
              <a:ext cx="1752480" cy="45720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제작 엔진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8" name=""/>
            <p:cNvCxnSpPr>
              <a:stCxn id="55" idx="2"/>
              <a:endCxn id="57" idx="0"/>
            </p:cNvCxnSpPr>
            <p:nvPr/>
          </p:nvCxnSpPr>
          <p:spPr>
            <a:xfrm flipH="1" rot="16200000">
              <a:off x="5333040" y="2818800"/>
              <a:ext cx="432360" cy="19566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9" name=""/>
            <p:cNvCxnSpPr>
              <a:stCxn id="55" idx="2"/>
              <a:endCxn id="56" idx="0"/>
            </p:cNvCxnSpPr>
            <p:nvPr/>
          </p:nvCxnSpPr>
          <p:spPr>
            <a:xfrm rot="5400000">
              <a:off x="3364920" y="2806200"/>
              <a:ext cx="432360" cy="19818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0" name=""/>
            <p:cNvSpPr/>
            <p:nvPr/>
          </p:nvSpPr>
          <p:spPr>
            <a:xfrm>
              <a:off x="800280" y="4698720"/>
              <a:ext cx="3581280" cy="9907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오브젝트에 대한 연산 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데이터의 최적화 처리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737240" y="4698720"/>
              <a:ext cx="3581280" cy="9907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맵</a:t>
              </a:r>
              <a:r>
                <a:rPr b="1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, </a:t>
              </a:r>
              <a:r>
                <a:rPr b="1" lang="zh-CN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캐릭터</a:t>
              </a:r>
              <a:r>
                <a:rPr b="1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, </a:t>
              </a:r>
              <a:r>
                <a:rPr b="1" lang="zh-CN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오브젝트의 재구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및 데이터베이스의 최적화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56" idx="2"/>
              <a:endCxn id="60" idx="0"/>
            </p:cNvCxnSpPr>
            <p:nvPr/>
          </p:nvCxnSpPr>
          <p:spPr>
            <a:xfrm>
              <a:off x="2590560" y="4469760"/>
              <a:ext cx="108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3" name=""/>
            <p:cNvCxnSpPr>
              <a:stCxn id="57" idx="2"/>
              <a:endCxn id="61" idx="0"/>
            </p:cNvCxnSpPr>
            <p:nvPr/>
          </p:nvCxnSpPr>
          <p:spPr>
            <a:xfrm>
              <a:off x="6527520" y="4469760"/>
              <a:ext cx="108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Impact"/>
              </a:rPr>
              <a:t>  </a:t>
            </a:r>
            <a:r>
              <a:rPr b="1" lang="ko-KR" sz="3000" spc="-1" strike="noStrike">
                <a:solidFill>
                  <a:srgbClr val="000000"/>
                </a:solidFill>
                <a:latin typeface="Impact"/>
              </a:rPr>
              <a:t>게임의 장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굴림"/>
              </a:rPr>
              <a:t>일반적인 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</a:rPr>
              <a:t>RTS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</a:rPr>
              <a:t>의 소모적인 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</a:rPr>
              <a:t>Unit 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</a:rPr>
              <a:t>배제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굴림"/>
              </a:rPr>
              <a:t>일부 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</a:rPr>
              <a:t>RTS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</a:rPr>
              <a:t>에 시도되었던 히어로 시스템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</a:rPr>
              <a:t>(Hero System)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</a:rPr>
              <a:t>과 차별화된 히어로 시스템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</a:rPr>
              <a:t>주인공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</a:rPr>
              <a:t>종족 구분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Impact"/>
              </a:rPr>
              <a:t>그래픽의 장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굴림"/>
              </a:rPr>
              <a:t>게임속도문제해결을 위해 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</a:rPr>
              <a:t>Low Polygon Modeling 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</a:rPr>
              <a:t>채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굴림"/>
              </a:rPr>
              <a:t>Mechanical Concept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</a:rPr>
              <a:t>에 비해 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</a:rPr>
              <a:t>2-3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</a:rPr>
              <a:t>배 많은 최적화된 면의 수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723960" y="761760"/>
            <a:ext cx="7696080" cy="6094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SzPct val="10283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ko-KR" sz="3500" spc="-1" strike="noStrike">
                <a:solidFill>
                  <a:srgbClr val="000000"/>
                </a:solidFill>
                <a:latin typeface="HY견고딕"/>
                <a:ea typeface="HY견고딕"/>
              </a:rPr>
              <a:t>가이아니아의 장점</a:t>
            </a:r>
            <a:r>
              <a:rPr b="0" lang="ko-KR" sz="3500" spc="-1" strike="noStrike">
                <a:solidFill>
                  <a:srgbClr val="000000"/>
                </a:solidFill>
                <a:latin typeface="HY견고딕"/>
                <a:ea typeface="HY견고딕"/>
              </a:rPr>
              <a:t>(2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23960" y="761760"/>
            <a:ext cx="7696080" cy="6094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SzPct val="10283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ko-KR" sz="3500" spc="-1" strike="noStrike">
                <a:solidFill>
                  <a:srgbClr val="000000"/>
                </a:solidFill>
                <a:latin typeface="HY견고딕"/>
                <a:ea typeface="HY견고딕"/>
              </a:rPr>
              <a:t>장르의 특징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RPG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RTS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의 결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굴림"/>
              </a:rPr>
              <a:t>RPG 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</a:rPr>
              <a:t>요소와 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</a:rPr>
              <a:t>RTS 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</a:rPr>
              <a:t>요소가 혼합된 게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D RT R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굴림"/>
              </a:rPr>
              <a:t>전투에 능동적인 히어로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굴림"/>
              </a:rPr>
              <a:t>실시간 전투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굴림"/>
              </a:rPr>
              <a:t>킵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</a:rPr>
              <a:t>(Keep)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</a:rPr>
              <a:t>에서 이루어지는 건설과 생산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23960" y="761760"/>
            <a:ext cx="7696080" cy="6094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SzPct val="10283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ko-KR" sz="3500" spc="-1" strike="noStrike">
                <a:solidFill>
                  <a:srgbClr val="000000"/>
                </a:solidFill>
                <a:latin typeface="HY견고딕"/>
                <a:ea typeface="HY견고딕"/>
              </a:rPr>
              <a:t>기타 동일 장르 게임과의 비교</a:t>
            </a:r>
            <a:r>
              <a:rPr b="0" lang="ko-KR" sz="3500" spc="-1" strike="noStrike">
                <a:solidFill>
                  <a:srgbClr val="000000"/>
                </a:solidFill>
                <a:latin typeface="HY견고딕"/>
                <a:ea typeface="HY견고딕"/>
              </a:rPr>
              <a:t>(1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Impact"/>
              </a:rPr>
              <a:t>장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굴림"/>
              </a:rPr>
              <a:t>WarCraft 3 : RPS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</a:rPr>
              <a:t>에 가까운 게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굴림"/>
              </a:rPr>
              <a:t>GAIANIA : RPG 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</a:rPr>
              <a:t>중심의 게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Impact"/>
              </a:rPr>
              <a:t>그래픽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굴림"/>
              </a:rPr>
              <a:t>WarCraft 3 : 2D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</a:rPr>
              <a:t>의 분적 사용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</a:rPr>
              <a:t>카메라 워크 부재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굴림"/>
              </a:rPr>
              <a:t>GAIANIA : Full 3D Polygo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723960" y="762120"/>
            <a:ext cx="7696080" cy="6094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SzPct val="10283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ko-KR" sz="3500" spc="-1" strike="noStrike">
                <a:solidFill>
                  <a:srgbClr val="000000"/>
                </a:solidFill>
                <a:latin typeface="HY견고딕"/>
                <a:ea typeface="HY견고딕"/>
              </a:rPr>
              <a:t>기타 동일 장르 게임과의 비교</a:t>
            </a:r>
            <a:r>
              <a:rPr b="0" lang="ko-KR" sz="3500" spc="-1" strike="noStrike">
                <a:solidFill>
                  <a:srgbClr val="000000"/>
                </a:solidFill>
                <a:latin typeface="HY견고딕"/>
                <a:ea typeface="HY견고딕"/>
              </a:rPr>
              <a:t>(2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게임 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view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굴림"/>
              </a:rPr>
              <a:t>WarCraft 3 : quarter view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굴림"/>
              </a:rPr>
              <a:t>GAIANIA : quarter view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</a:rPr>
              <a:t>보다 낮은 뷰 사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</a:rPr>
              <a:t>축소 및 확대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</a:rPr>
              <a:t>회전을 기본으로 카메라 워크를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</a:rPr>
              <a:t>지원하여 보다 용이한 전투화면 제공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2T00:30:52Z</dcterms:created>
  <dc:creator>김윤정</dc:creator>
  <dc:description/>
  <dc:language>en-US</dc:language>
  <cp:lastModifiedBy>webax4</cp:lastModifiedBy>
  <cp:lastPrinted>2000-08-23T05:33:28Z</cp:lastPrinted>
  <dcterms:modified xsi:type="dcterms:W3CDTF">2001-04-20T06:13:14Z</dcterms:modified>
  <cp:revision>147</cp:revision>
  <dc:subject/>
  <dc:title>슬라이드 제목 없음</dc:title>
</cp:coreProperties>
</file>