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076960" cy="647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932120" y="2362320"/>
            <a:ext cx="5002200" cy="21114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3520" y="5791320"/>
            <a:ext cx="8076960" cy="104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7391520" y="6019920"/>
            <a:ext cx="106668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447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게임컨텐츠 제작의 새로운 패러다임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New-Paradigm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과  게임산업구조의 새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74320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주   정   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공학박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㈜서울게임대학 원장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주정규게임디자인연구소 소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9320"/>
            <a:ext cx="7696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컨텐츠 산업의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New-Paradig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제작 패러다임의 변화 –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27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 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컨텐츠 개발의 성공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1-18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번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8, 29,30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문화에 대응한 게임산업의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컨텐츼 플렘폼별 응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PC-Based Ga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Console(Video) Ga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Mobile Game/ Arcade Ga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Online Game/ Web Game/ VM Game/ WAP Ga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7696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한국 게임산업 구조의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2000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년도 국내 게임시장 규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국내 개발사 동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한국 게임개발의 실패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례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A, B, C, D, E  etc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한국 게임산업 구조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개발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배급사 및 유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정부 및 정부기관의 정책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제작 펀드조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시장의 활성화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잡지 및 매스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219320"/>
            <a:ext cx="7696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해외 게임산업 구조의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세계게임 시장의 전망 –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lt;38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 표 참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일본 산업구조 현황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&lt;38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미국 게임산업 구조 현황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&lt;39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유럽 게임산업 구조 현황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&lt;41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한국 게임산업 구조의 새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틀 짜기 전략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방안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개발사 측면 새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틀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 플레폼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배급사 및 유통사 측면의 새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정부 및 지원기관 측면의 새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투자 측면의 새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219320"/>
            <a:ext cx="7696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신지식 산업과 감성산업으로서의 게임산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창작 및 게임디자인 전략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발전전략 –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lt;47,48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 참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8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결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은 재미있어야 잘 팔린다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재미있는 게임을 제작해야 한다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창작 여건을 조성해야 한다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상호 공존 시스템 구축에 다 같이 노력”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219320"/>
            <a:ext cx="7696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&lt;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참고 자료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주요 국내 게임업체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2000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2001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년 매출 예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단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아케이드는 제외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구슬이 서말이라도 꿰어야 보배이다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 서로 사랑합시다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“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먼가 아니고 당신이 우선이다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11280"/>
            <a:ext cx="76960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</a:t>
            </a:r>
            <a:r>
              <a:rPr b="1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목     차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산업과 게임컨텐츠 총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프로세스 및 개발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컨텐츠 산업의 새로운 패러다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한국 게임산업의 구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해외 게임산업구조의 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한국 게임산업구조의 새</a:t>
            </a: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틀 구성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신지식산업과 감성산업으로서의 게임산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결론 및 제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질의 및 토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참고자료</a:t>
            </a:r>
            <a:r>
              <a:rPr b="1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19320"/>
            <a:ext cx="7696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1. </a:t>
            </a:r>
            <a:r>
              <a:rPr b="1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산업과 게임컨텐츠 총론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은 사회악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은 공부 안 하는 애들이 하는 것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은 해로운 것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문화관광부 게임음반과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종합지원센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관련협동조합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협회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프로게임협회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학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대학의 게임학과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㈜서울게임대학 등 게임 고등교육기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프로게이머 직종 및 프로게이머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억 연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온라인게임의 경쟁력 향상 –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553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억 매출기업 탄생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lt;[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참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배급 및 유통 매출 –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430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억 기업탄생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lt;[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참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&gt;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43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의 제작 유형의 변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복제성 게임성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단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PC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네트워크 및 온라인게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창작성 게임으로 변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아케이드게임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감성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체감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감동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가상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현실적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B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온라인게임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역사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무협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세상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현실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경영 등                      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무선게임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단순 코믹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간략 스토리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캐릭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미니게임 등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업체 매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 1999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년도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: PC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,088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억원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온라인게임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99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억원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 인프라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전반적인 게임개발 여건 초기 시작으로 호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되고 있음    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696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발여건 조성 전략과 그 해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하나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시장경제원리 도입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업계의 분위기 쇄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근무 및 개발 여건 조성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신뢰감 쌓기 등 창작성 지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둘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제작 엔진 및 개발툴 오픈 전략으로 기술향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표준화된 엔진으로 누구나 게임컨텐츠 개발 여건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셋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기획 및 시나리오 창작 리딩 그룹 형성 및 육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문화예술계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인문분야의 전문가 유치노력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넷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 사전심의 폐지 및 사후심의로 창작 여건 조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다섯  – 정부 게임산업 정책 미흡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생산적인 게임지원 정책 수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전문가로 구성된 게임정책 수립 필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7696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발여건 조성 전략과 그 해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여섯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한일문화개방 분야 중 비디오게임 제외 유감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일곱 – 게임시장의 파이 확장에 노력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상호간 신뢰감회복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소비자에 대한 서비스 질 향상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여덟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게임제작교육으로 전문인력 육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고교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대학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대학원 설립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업계고교의 게임고교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또는 학과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로 전환 노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아홉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진흥기관의 민영화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관치 게임산업 발전지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시장경제 원리 및 국제화된 게임사업에 탄력적 대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열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상호공생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Win &amp; Win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전략 모색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시장의 파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확대에 다 함께 노력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또는 상호공존전략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696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프로세스 디자인전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Game Genres :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교재 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Playing Perspectives :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교재 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전략 – 어떤 게임을 제작할 것인가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설계 왜 중요한가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소재 및 시나리오 왜 중요한가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요소 – 본문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 아이디어 창작 및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Brainstorming/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시장조사–본문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제작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Pre-Production/ Production/ Post-Prod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19320"/>
            <a:ext cx="7696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프로세스 디자인전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7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창작기법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캐릭터 창작 –캐릭터역할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라라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크로프트”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액시스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싱클레어”의 역할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스토리 및 스토리 보드 – 본문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8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창작기법 –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Puzzle De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Level Design (Map Design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과 밀접한 관계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Mission De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Interacti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Interfacing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37160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696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프로세스 디자인전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9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컨텐츠의 창작요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창작요인 – 어떻게 적용할 것인가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컨텐츠 요소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- Visual, Musical, Aural, Textu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그래픽 표현대상 분류 –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2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참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모션 캡처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감성적인 게임컨텐츠 요소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4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표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참조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0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고려사항 – 본문 참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대본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Storytell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게임디자인 전략 결론 –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26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쪽 본문 참조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05:04:32Z</dcterms:created>
  <dc:creator>user</dc:creator>
  <dc:description/>
  <dc:language>en-US</dc:language>
  <cp:lastModifiedBy>user</cp:lastModifiedBy>
  <dcterms:modified xsi:type="dcterms:W3CDTF">2000-04-26T10:50:20Z</dcterms:modified>
  <cp:revision>35</cp:revision>
  <dc:subject/>
  <dc:title>PowerPoint 프레젠테이션</dc:title>
</cp:coreProperties>
</file>