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96AF-DC2F-4821-ADB8-37CFCA509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FB00-807A-48AD-A811-1F2D4A735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5B84-4D7A-4099-B195-39D6A25B0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F026-A30A-4916-BB4B-601313B51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4B93E-4BB6-480F-B81A-3ECBD9105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CDDB2-D72F-495C-91EB-B1ADC0765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2ED93-BD90-4446-97C1-C129E411A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A1E04-6B42-4149-A255-721171FA2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9ACC4-7D9B-4AF0-8E94-23C75FAE1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DFFAE-7A80-4DD5-ADAB-A504E263E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CF400-7FE0-458E-AF71-6FBBDBD80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34E8-0DF1-459C-916C-3E21E6B3F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6FFB2-3AA7-4F67-8498-3298458AF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A8D47-F70B-4B5F-B254-5B0B8F9D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9BAC0-413E-49AC-B396-B163A32ED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2367B-DC54-4BE9-9D29-6620AB18D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92EF1-65D5-4CA7-BA16-F05E0E256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CE2B-C9BD-49F0-93BE-0FBEE0C23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2926-8367-4648-A399-C1F156B76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995F-B7F2-43EB-8CEB-739D139BF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4DB2-F7E8-4B45-B324-C45F65EDA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861E-9688-4B82-AED6-4D2E5C0E2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F1A4-6D4B-47D4-B155-F7502EFB8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7ECF-FDBC-433F-BFF8-D2F2403E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2C5B4-3851-4B6F-8A6E-11DF8DF0A6F8}" type="slidenum">
              <a:rPr b="0" lang="ko-KR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4640" y="-360"/>
            <a:ext cx="63993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0" lang="en-US" sz="5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7D906-FFAE-4122-B5FC-D665DB765917}" type="slidenum">
              <a:rPr b="0" lang="ko-KR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4640" y="-360"/>
            <a:ext cx="63993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36699"/>
                </a:solidFill>
                <a:latin typeface="Arial Narrow"/>
              </a:rPr>
              <a:t>Geometrical Transformations</a:t>
            </a:r>
            <a:endParaRPr b="0" lang="en-US" sz="5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9999"/>
                </a:solidFill>
                <a:latin typeface="Arial"/>
              </a:rPr>
              <a:t>김 병기</a:t>
            </a:r>
            <a:r>
              <a:rPr b="0" lang="ko-KR" sz="24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FairWave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 Narrow"/>
              </a:rPr>
              <a:t>Homogeneous Coordinates and Matrix Representation of 2D Transformations</a:t>
            </a:r>
            <a:endParaRPr b="0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앞서 기술한 것처럼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translation, scaling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그리고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rotation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을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matrix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로 표현할 수 있었습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그런데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translation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은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scaling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및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rotation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과 다른 연산을 취하기 때문에 이 세 가지 변환을 하나의 일관된 방식으로 묶기가 힘듭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그러나 만약 점을 </a:t>
            </a:r>
            <a:r>
              <a:rPr b="1" lang="ko-KR" sz="1600" spc="-1" strike="noStrike">
                <a:solidFill>
                  <a:srgbClr val="009999"/>
                </a:solidFill>
                <a:latin typeface="Arial"/>
              </a:rPr>
              <a:t>동차 좌표계</a:t>
            </a:r>
            <a:r>
              <a:rPr b="1" lang="ko-KR" sz="16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homogeneous coordinates)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상에서 표현을 하면 이 세 가지 변환을 하나의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matrix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곱으로 표현 할 수가 있게 됩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D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좌표계 상의 점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x,y)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는 동차 좌표계 상에서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x,y,w)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로 표현 됩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(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즉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D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공간에서 표현됩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)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동차 좌표계의 특징으로 만약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x,y,w)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와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x’,y’,w’)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가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스칼라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)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배 관계이면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,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즉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tx,ty,tw) = (x’,y’,w’),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이 두 동차 좌표는 같은 점을 가리키게 됩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예로 동차 좌표계 상의 두 점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(2,3,6)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와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(4,6,12)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는 같은 점을 가리킵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5105520" y="2514600"/>
                <a:ext cx="302868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e>
                      <m:e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S</m:t>
                        </m:r>
                        <m:r>
                          <m:t xml:space="preserve">⋅</m:t>
                        </m:r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 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e>
                      <m:e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                      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 Narrow"/>
              </a:rPr>
              <a:t>Homogeneous Coordinates and Matrix Representation of 2D Transformations(2)</a:t>
            </a:r>
            <a:endParaRPr b="0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Translation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공식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(1.1)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을 동차 좌표계에서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0" lang="ko-KR" sz="1600" spc="-1" strike="noStrike">
                <a:solidFill>
                  <a:srgbClr val="009999"/>
                </a:solidFill>
                <a:latin typeface="Symbol"/>
                <a:ea typeface="Symbol"/>
              </a:rPr>
              <a:t>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3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matrix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형태로 표현하면 다음과 같습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3276720" y="2666880"/>
                <a:ext cx="5146560" cy="335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p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p>
                                      <m:r>
                                        <m:t xml:space="preserve">'</m:t>
                                      </m:r>
                                    </m:sup>
                                  </m:sSup>
                                </m:e>
                              </m:mr>
                              <m:mr>
                                <m:e>
                                  <m:sSup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p>
                                      <m:r>
                                        <m:t xml:space="preserve">'</m:t>
                                      </m:r>
                                    </m:sup>
                                  </m:sSup>
                                </m:e>
                              </m:mr>
                              <m:mr>
                                <m:e>
                                  <m:sSup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p>
                                      <m:r>
                                        <m:t xml:space="preserve">'</m:t>
                                      </m:r>
                                    </m:sup>
                                  </m:sSup>
                                </m:e>
                              </m:mr>
                            </m:m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x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y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z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)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Another expresstion is</m:t>
                        </m:r>
                      </m:e>
                      <m:e>
                        <m:r>
                          <m:t xml:space="preserve"> 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P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d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 Narrow"/>
              </a:rPr>
              <a:t>Homogeneous Coordinates and Matrix Representation of 2D Transformations(3)</a:t>
            </a:r>
            <a:endParaRPr b="0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Scaling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공식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(1.4)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도 앞선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translation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과 같이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0" lang="ko-KR" sz="1600" spc="-1" strike="noStrike">
                <a:solidFill>
                  <a:srgbClr val="009999"/>
                </a:solidFill>
                <a:latin typeface="Symbol"/>
                <a:ea typeface="Symbol"/>
              </a:rPr>
              <a:t>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3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matrix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형태로 표현하면 다음과 같습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Rotation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공식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(1.6)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도 마찬가지로 정리하면 다음과 같습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3276720" y="2514600"/>
                <a:ext cx="5248080" cy="17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P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3276720" y="4648320"/>
                <a:ext cx="5248080" cy="16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P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θ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</m:t>
                                  </m:r>
                                  <m:r>
                                    <m:t xml:space="preserve">θ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</m:t>
                                  </m:r>
                                  <m:r>
                                    <m:t xml:space="preserve">θ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θ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Arial Narrow"/>
              </a:rPr>
              <a:t>Affine Transformations</a:t>
            </a:r>
            <a:endParaRPr b="0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Special Orthogonal Transformation Matrix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특징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: 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변형을 가하기 전의 길이와 각이 변형한 이후에도 유지가 됩니다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형태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:</a:t>
            </a:r>
            <a:endParaRPr b="0" lang="en-US" sz="15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Affine Transformations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특징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: 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변형을 가하기 전의 평행한 선들은 변형 이후에도 그 속성이 유지 됩니다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형태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: </a:t>
            </a:r>
            <a:r>
              <a:rPr b="0" lang="en-US" sz="1500" spc="-1" strike="noStrike">
                <a:solidFill>
                  <a:srgbClr val="009999"/>
                </a:solidFill>
                <a:latin typeface="Arial"/>
              </a:rPr>
              <a:t>rotation, translation 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그리고 </a:t>
            </a:r>
            <a:r>
              <a:rPr b="0" lang="en-US" sz="1500" spc="-1" strike="noStrike">
                <a:solidFill>
                  <a:srgbClr val="009999"/>
                </a:solidFill>
                <a:latin typeface="Arial"/>
              </a:rPr>
              <a:t>scale transformation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은 </a:t>
            </a:r>
            <a:r>
              <a:rPr b="0" i="1" lang="en-US" sz="1500" spc="-1" strike="noStrike">
                <a:solidFill>
                  <a:srgbClr val="009999"/>
                </a:solidFill>
                <a:latin typeface="Arial"/>
              </a:rPr>
              <a:t>affine</a:t>
            </a:r>
            <a:r>
              <a:rPr b="0" lang="en-US" sz="1500" spc="-1" strike="noStrike">
                <a:solidFill>
                  <a:srgbClr val="009999"/>
                </a:solidFill>
                <a:latin typeface="Arial"/>
              </a:rPr>
              <a:t> transformation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에 속합니다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. 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그리고 이 </a:t>
            </a:r>
            <a:r>
              <a:rPr b="0" lang="en-US" sz="1500" spc="-1" strike="noStrike">
                <a:solidFill>
                  <a:srgbClr val="009999"/>
                </a:solidFill>
                <a:latin typeface="Arial"/>
              </a:rPr>
              <a:t>transformation matrix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들의 임의의 곱도 </a:t>
            </a:r>
            <a:r>
              <a:rPr b="0" lang="en-US" sz="1500" spc="-1" strike="noStrike">
                <a:solidFill>
                  <a:srgbClr val="009999"/>
                </a:solidFill>
                <a:latin typeface="Arial"/>
              </a:rPr>
              <a:t>affine transformation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이 됩니다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예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: </a:t>
            </a:r>
            <a:r>
              <a:rPr b="0" lang="en-US" sz="1500" spc="-1" strike="noStrike">
                <a:solidFill>
                  <a:srgbClr val="009999"/>
                </a:solidFill>
                <a:latin typeface="Arial"/>
              </a:rPr>
              <a:t>R(30</a:t>
            </a:r>
            <a:r>
              <a:rPr b="0" lang="en-US" sz="1500" spc="-1" strike="noStrike">
                <a:solidFill>
                  <a:srgbClr val="009999"/>
                </a:solidFill>
                <a:latin typeface="Symbol"/>
                <a:ea typeface="Symbol"/>
              </a:rPr>
              <a:t></a:t>
            </a:r>
            <a:r>
              <a:rPr b="0" lang="en-US" sz="1500" spc="-1" strike="noStrike">
                <a:solidFill>
                  <a:srgbClr val="009999"/>
                </a:solidFill>
                <a:latin typeface="Arial"/>
              </a:rPr>
              <a:t>)•S(3,2)•T(10,10)</a:t>
            </a:r>
            <a:endParaRPr b="0" lang="en-US" sz="1500" spc="-1" strike="noStrike">
              <a:solidFill>
                <a:srgbClr val="0099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4191120" y="3048120"/>
                <a:ext cx="401796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99"/>
                </a:solidFill>
                <a:latin typeface="Arial Narrow"/>
              </a:rPr>
              <a:t>Affine Transformations(2)</a:t>
            </a:r>
            <a:endParaRPr b="0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Shear Transformations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9999"/>
                </a:solidFill>
                <a:latin typeface="Arial"/>
              </a:rPr>
              <a:t>Shear Transformation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도 </a:t>
            </a:r>
            <a:r>
              <a:rPr b="0" lang="en-US" sz="1500" spc="-1" strike="noStrike">
                <a:solidFill>
                  <a:srgbClr val="009999"/>
                </a:solidFill>
                <a:latin typeface="Arial"/>
              </a:rPr>
              <a:t>affine transformation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의 일종으로 두 가지 형태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, </a:t>
            </a:r>
            <a:r>
              <a:rPr b="0" lang="en-US" sz="1500" spc="-1" strike="noStrike">
                <a:solidFill>
                  <a:srgbClr val="009999"/>
                </a:solidFill>
                <a:latin typeface="Arial"/>
              </a:rPr>
              <a:t>x 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축을 따라 기울이기와 </a:t>
            </a:r>
            <a:r>
              <a:rPr b="0" lang="en-US" sz="1500" spc="-1" strike="noStrike">
                <a:solidFill>
                  <a:srgbClr val="009999"/>
                </a:solidFill>
                <a:latin typeface="Arial"/>
              </a:rPr>
              <a:t>y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축을 따라 기울이기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, 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가 있습니다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99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3505320" y="3124080"/>
                <a:ext cx="512604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H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H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b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9" name=""/>
          <p:cNvGrpSpPr/>
          <p:nvPr/>
        </p:nvGrpSpPr>
        <p:grpSpPr>
          <a:xfrm>
            <a:off x="3793680" y="4648320"/>
            <a:ext cx="3759120" cy="1739160"/>
            <a:chOff x="3793680" y="4648320"/>
            <a:chExt cx="3759120" cy="1739160"/>
          </a:xfrm>
        </p:grpSpPr>
        <p:sp>
          <p:nvSpPr>
            <p:cNvPr id="150" name=""/>
            <p:cNvSpPr/>
            <p:nvPr/>
          </p:nvSpPr>
          <p:spPr>
            <a:xfrm>
              <a:off x="3886200" y="4800600"/>
              <a:ext cx="685800" cy="6094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 rot="16200000">
              <a:off x="6513840" y="4686120"/>
              <a:ext cx="761760" cy="685800"/>
            </a:xfrm>
            <a:prstGeom prst="parallelogram">
              <a:avLst>
                <a:gd name="adj" fmla="val 21979"/>
              </a:avLst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181480" y="4800600"/>
              <a:ext cx="914400" cy="609480"/>
            </a:xfrm>
            <a:prstGeom prst="parallelogram">
              <a:avLst>
                <a:gd name="adj" fmla="val 37507"/>
              </a:avLst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793680" y="6019200"/>
              <a:ext cx="374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9999"/>
                  </a:solidFill>
                  <a:latin typeface="Times New Roman"/>
                </a:rPr>
                <a:t>그림 </a:t>
              </a:r>
              <a:r>
                <a:rPr b="0" lang="ko-KR" sz="1800" spc="-1" strike="noStrike">
                  <a:solidFill>
                    <a:srgbClr val="009999"/>
                  </a:solidFill>
                  <a:latin typeface="Times New Roman"/>
                </a:rPr>
                <a:t>1.2 </a:t>
              </a:r>
              <a:r>
                <a:rPr b="0" lang="en-US" sz="1800" spc="-1" strike="noStrike">
                  <a:solidFill>
                    <a:srgbClr val="009999"/>
                  </a:solidFill>
                  <a:latin typeface="Times New Roman"/>
                </a:rPr>
                <a:t>The primitive-shear operations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78720" y="5485680"/>
              <a:ext cx="1302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9999"/>
                  </a:solidFill>
                  <a:latin typeface="Times New Roman"/>
                </a:rPr>
                <a:t>The unit cube sheared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9999"/>
                  </a:solidFill>
                  <a:latin typeface="Times New Roman"/>
                </a:rPr>
                <a:t>in the x direction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250320" y="5485680"/>
              <a:ext cx="1302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9999"/>
                  </a:solidFill>
                  <a:latin typeface="Times New Roman"/>
                </a:rPr>
                <a:t>The unit cube sheared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9999"/>
                  </a:solidFill>
                  <a:latin typeface="Times New Roman"/>
                </a:rPr>
                <a:t>in the y direction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11320" y="5485680"/>
              <a:ext cx="881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9999"/>
                  </a:solidFill>
                  <a:latin typeface="Times New Roman"/>
                </a:rPr>
                <a:t>The unit cube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 Narrow"/>
              </a:rPr>
              <a:t>Composition of 2D Transformations</a:t>
            </a:r>
            <a:endParaRPr b="0" lang="en-US" sz="32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9999"/>
                </a:solidFill>
                <a:latin typeface="Arial"/>
              </a:rPr>
              <a:t>임의의 점 </a:t>
            </a:r>
            <a:r>
              <a:rPr b="1" i="1" lang="en-US" sz="1600" spc="-1" strike="noStrike">
                <a:solidFill>
                  <a:srgbClr val="009999"/>
                </a:solidFill>
                <a:latin typeface="Arial"/>
              </a:rPr>
              <a:t>P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1" lang="ko-KR" sz="1600" spc="-1" strike="noStrike">
                <a:solidFill>
                  <a:srgbClr val="009999"/>
                </a:solidFill>
                <a:latin typeface="Arial"/>
              </a:rPr>
              <a:t>을 중심으로 회전하기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우리가 이미 알고 있는 세 가지의 기본적인 변환을 응용할 수 있습니다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. 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먼저 원점을 중심으로 회전할 수 있으므로</a:t>
            </a:r>
            <a:endParaRPr b="0" lang="en-US" sz="15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1. 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점 </a:t>
            </a:r>
            <a:r>
              <a:rPr b="0" i="1" lang="en-US" sz="1500" spc="-1" strike="noStrike">
                <a:solidFill>
                  <a:srgbClr val="009999"/>
                </a:solidFill>
                <a:latin typeface="Arial"/>
              </a:rPr>
              <a:t>P</a:t>
            </a:r>
            <a:r>
              <a:rPr b="0" lang="en-US" sz="11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을 원점으로 이동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en-US" sz="1500" spc="-1" strike="noStrike">
                <a:solidFill>
                  <a:srgbClr val="009999"/>
                </a:solidFill>
                <a:latin typeface="Arial"/>
              </a:rPr>
              <a:t>translate) 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시킨 후</a:t>
            </a:r>
            <a:endParaRPr b="0" lang="en-US" sz="15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2. 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원점을 중심으로 회전시킨 다음</a:t>
            </a:r>
            <a:endParaRPr b="0" lang="en-US" sz="15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3. 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다시 점 </a:t>
            </a:r>
            <a:r>
              <a:rPr b="0" i="1" lang="en-US" sz="1500" spc="-1" strike="noStrike">
                <a:solidFill>
                  <a:srgbClr val="009999"/>
                </a:solidFill>
                <a:latin typeface="Arial"/>
              </a:rPr>
              <a:t>P</a:t>
            </a:r>
            <a:r>
              <a:rPr b="0" lang="en-US" sz="11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을 원래 위치로 이동 시키면 됩니다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이런 변환을 </a:t>
            </a:r>
            <a:r>
              <a:rPr b="0" lang="en-US" sz="1500" spc="-1" strike="noStrike">
                <a:solidFill>
                  <a:srgbClr val="009999"/>
                </a:solidFill>
                <a:latin typeface="Arial"/>
              </a:rPr>
              <a:t>matrix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의 곱으로 표현하면 다음과 같습니다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99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3429000" y="3962520"/>
                <a:ext cx="5184720" cy="24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T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θ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</m:t>
                                  </m:r>
                                  <m:r>
                                    <m:t xml:space="preserve">θ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</m:t>
                                  </m:r>
                                  <m:r>
                                    <m:t xml:space="preserve">θ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θ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θ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</m:t>
                                  </m:r>
                                  <m:r>
                                    <m:t xml:space="preserve">θ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(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θ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+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</m:t>
                                  </m:r>
                                  <m:r>
                                    <m:t xml:space="preserve">θ</m:t>
                                  </m:r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</m:t>
                                  </m:r>
                                  <m:r>
                                    <m:t xml:space="preserve">θ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θ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(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θ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</m:t>
                                  </m:r>
                                  <m:r>
                                    <m:t xml:space="preserve">θ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 Narrow"/>
              </a:rPr>
              <a:t>Composition of 2D Transformations(2)</a:t>
            </a:r>
            <a:endParaRPr b="0" lang="en-US" sz="32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9999"/>
                </a:solidFill>
                <a:latin typeface="Arial"/>
              </a:rPr>
              <a:t>임의의 점 </a:t>
            </a:r>
            <a:r>
              <a:rPr b="1" i="1" lang="en-US" sz="1600" spc="-1" strike="noStrike">
                <a:solidFill>
                  <a:srgbClr val="009999"/>
                </a:solidFill>
                <a:latin typeface="Arial"/>
              </a:rPr>
              <a:t>P</a:t>
            </a: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1" lang="ko-KR" sz="1600" spc="-1" strike="noStrike">
                <a:solidFill>
                  <a:srgbClr val="009999"/>
                </a:solidFill>
                <a:latin typeface="Arial"/>
              </a:rPr>
              <a:t>을 중심으로 확대</a:t>
            </a:r>
            <a:r>
              <a:rPr b="1" lang="ko-KR" sz="1600" spc="-1" strike="noStrike">
                <a:solidFill>
                  <a:srgbClr val="009999"/>
                </a:solidFill>
                <a:latin typeface="Arial"/>
              </a:rPr>
              <a:t>/</a:t>
            </a:r>
            <a:r>
              <a:rPr b="1" lang="ko-KR" sz="1600" spc="-1" strike="noStrike">
                <a:solidFill>
                  <a:srgbClr val="009999"/>
                </a:solidFill>
                <a:latin typeface="Arial"/>
              </a:rPr>
              <a:t>축소하기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우리가 이미 알고 있는 세 가지의 기본적인 변환을 응용할 수 있습니다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. 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먼저 원점을 중심으로 </a:t>
            </a:r>
            <a:r>
              <a:rPr b="0" lang="en-US" sz="1500" spc="-1" strike="noStrike">
                <a:solidFill>
                  <a:srgbClr val="009999"/>
                </a:solidFill>
                <a:latin typeface="Arial"/>
              </a:rPr>
              <a:t>scaling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을 할 수 있으므로</a:t>
            </a:r>
            <a:endParaRPr b="0" lang="en-US" sz="15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1. 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점 </a:t>
            </a:r>
            <a:r>
              <a:rPr b="0" i="1" lang="en-US" sz="1500" spc="-1" strike="noStrike">
                <a:solidFill>
                  <a:srgbClr val="009999"/>
                </a:solidFill>
                <a:latin typeface="Arial"/>
              </a:rPr>
              <a:t>P</a:t>
            </a:r>
            <a:r>
              <a:rPr b="0" lang="en-US" sz="11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을 원점으로 이동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en-US" sz="1500" spc="-1" strike="noStrike">
                <a:solidFill>
                  <a:srgbClr val="009999"/>
                </a:solidFill>
                <a:latin typeface="Arial"/>
              </a:rPr>
              <a:t>translate) 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시킨 후</a:t>
            </a:r>
            <a:endParaRPr b="0" lang="en-US" sz="15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2. 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원점을 중심으로 </a:t>
            </a:r>
            <a:r>
              <a:rPr b="0" lang="en-US" sz="1500" spc="-1" strike="noStrike">
                <a:solidFill>
                  <a:srgbClr val="009999"/>
                </a:solidFill>
                <a:latin typeface="Arial"/>
              </a:rPr>
              <a:t>scaling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을 한 다음</a:t>
            </a:r>
            <a:endParaRPr b="0" lang="en-US" sz="15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3. 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다시 점 </a:t>
            </a:r>
            <a:r>
              <a:rPr b="0" i="1" lang="en-US" sz="1500" spc="-1" strike="noStrike">
                <a:solidFill>
                  <a:srgbClr val="009999"/>
                </a:solidFill>
                <a:latin typeface="Arial"/>
              </a:rPr>
              <a:t>P</a:t>
            </a:r>
            <a:r>
              <a:rPr b="0" lang="en-US" sz="11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을 원래 위치로 이동 시키면 됩니다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374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이런 변환을 </a:t>
            </a:r>
            <a:r>
              <a:rPr b="0" lang="en-US" sz="1500" spc="-1" strike="noStrike">
                <a:solidFill>
                  <a:srgbClr val="009999"/>
                </a:solidFill>
                <a:latin typeface="Arial"/>
              </a:rPr>
              <a:t>matrix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의 곱으로 표현하면 다음과 같습니다</a:t>
            </a:r>
            <a:r>
              <a:rPr b="0" lang="ko-KR" sz="15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99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3429000" y="3962520"/>
                <a:ext cx="4917960" cy="24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T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(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b>
                                      <m:r>
                                        <m:t xml:space="preserve">x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</m:e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(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s</m:t>
                                      </m:r>
                                    </m:e>
                                    <m:sub>
                                      <m:r>
                                        <m:t xml:space="preserve">y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744640" y="6858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336699"/>
                </a:solidFill>
                <a:latin typeface="Arial Narrow"/>
              </a:rPr>
              <a:t>들어가기에 앞서</a:t>
            </a:r>
            <a:endParaRPr b="0" lang="en-US" sz="4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657600" y="1752480"/>
            <a:ext cx="51055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본 내용은</a:t>
            </a:r>
            <a:r>
              <a:rPr b="0" lang="ko-KR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omputer Graphics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PRINCIPLES AND PRACTICE (SECOND EDITION IN 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)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의 제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5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장의 내용을 정리한 것입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Computer Graphics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에 처음 입문 하시는 분들을 위해서 내용을 쉽게 설명하려고 노력하고 있습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그리고 이미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C.G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를 잘 아시는 분들을 위해서 도움될 만한 공식들을 보기 좋게 요약해 놓으려고 합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앞으로 몇 차례에 걸쳐 나누어 정리하려고 합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먼저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5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장의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1~3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절을 요약 정리 하였습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44640" y="6858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36699"/>
                </a:solidFill>
                <a:latin typeface="Arial Narrow"/>
              </a:rPr>
              <a:t>Book Contents</a:t>
            </a:r>
            <a:endParaRPr b="0" lang="en-US" sz="5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657600" y="1752120"/>
            <a:ext cx="510552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9999"/>
                </a:solidFill>
                <a:latin typeface="Arial"/>
              </a:rPr>
              <a:t>5.1   2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D Transformations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5.2   Homogeneous Coordinates and Matrix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Representation of 2D Transformations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5.3   Composition of 2D Transformations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5.4  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The Window-to-Viewport Transformation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5.5   Efficiency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5.6   Matrix Representation of 3D Transformations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5.7   Composition of 3D Transformations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5.8   Transformations as a Change in Coordinate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System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44640" y="685800"/>
            <a:ext cx="639936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36699"/>
                </a:solidFill>
                <a:latin typeface="Arial Narrow"/>
              </a:rPr>
              <a:t>Slide Contents</a:t>
            </a:r>
            <a:endParaRPr b="0" lang="en-US" sz="5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600" y="1752480"/>
            <a:ext cx="510552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spcBef>
                <a:spcPts val="45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Geometrical Transformations</a:t>
            </a:r>
            <a:r>
              <a:rPr b="1" lang="ko-KR" sz="1800" spc="-1" strike="noStrike">
                <a:solidFill>
                  <a:srgbClr val="009999"/>
                </a:solidFill>
                <a:latin typeface="Arial"/>
              </a:rPr>
              <a:t>이란 무엇인가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D Transformations - Translation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D Transformations - Scaling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D Transformations - Rotation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Homogeneous Coordinates and Matrix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Representation of 2D Transformations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Affine Transformations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Shear Transformations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Composition of 2D Transformations</a:t>
            </a:r>
            <a:endParaRPr b="0" lang="en-US" sz="1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90920" y="10285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 Narrow"/>
              </a:rPr>
              <a:t>Geometrical Transformations</a:t>
            </a:r>
            <a:r>
              <a:rPr b="0" lang="ko-KR" sz="2800" spc="-1" strike="noStrike">
                <a:solidFill>
                  <a:srgbClr val="336699"/>
                </a:solidFill>
                <a:latin typeface="Arial Narrow"/>
              </a:rPr>
              <a:t>이란 무엇인가</a:t>
            </a:r>
            <a:endParaRPr b="0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Geometrical Transformations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을 우리말로 번역을 하자면 ‘</a:t>
            </a:r>
            <a:r>
              <a:rPr b="1" lang="ko-KR" sz="1600" spc="-1" strike="noStrike">
                <a:solidFill>
                  <a:srgbClr val="009999"/>
                </a:solidFill>
                <a:latin typeface="Arial"/>
              </a:rPr>
              <a:t>기하학적인 변형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’이라 할 수 있습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예로 도시계획 응용 프로그램을 생각해 봅시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이 응용 프로그램은 건물과 나무들을 적절하게 배치시키며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translation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)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빛이 잘 들어오는 방향으로 건물을 돌려 놓기도 하며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rotation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)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건물의 크기나 높이를 적당하게 조절하는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scaling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)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작업을 하게 될 것입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이러한 일련의 작업을 가리켜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Geometrical Transformations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이라 합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D(2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차원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)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그리고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D(3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차원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)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상에서 표현되는 모든 기하학적인 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</a:rPr>
              <a:t>symbols(objects or templates)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 -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위에 예로 든 건물이나 나무와 같은 물체들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-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을 어떻게 변형하는지 그 방법을 앞으로 기술해 나가도록 하겠습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14600" y="10267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6699"/>
                </a:solidFill>
                <a:latin typeface="Arial Narrow"/>
              </a:rPr>
              <a:t>2</a:t>
            </a:r>
            <a:r>
              <a:rPr b="0" lang="en-US" sz="4000" spc="-1" strike="noStrike">
                <a:solidFill>
                  <a:srgbClr val="336699"/>
                </a:solidFill>
                <a:latin typeface="Arial Narrow"/>
              </a:rPr>
              <a:t>D Transformations - Translation</a:t>
            </a:r>
            <a:endParaRPr b="0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우리는 </a:t>
            </a:r>
            <a:r>
              <a:rPr b="0" i="1" lang="ko-KR" sz="16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9999"/>
                </a:solidFill>
                <a:latin typeface="Arial"/>
              </a:rPr>
              <a:t>x,y)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평면상의 점들에 이동 변위를 더함으로써 새로운 위치로 이동 시킬 수 있습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각 점 </a:t>
            </a:r>
            <a:r>
              <a:rPr b="0" i="1" lang="en-US" sz="1600" spc="-1" strike="noStrike">
                <a:solidFill>
                  <a:srgbClr val="009999"/>
                </a:solidFill>
                <a:latin typeface="Arial"/>
              </a:rPr>
              <a:t>P(x,y)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는 </a:t>
            </a:r>
            <a:r>
              <a:rPr b="0" i="1" lang="en-US" sz="1600" spc="-1" strike="noStrike">
                <a:solidFill>
                  <a:srgbClr val="009999"/>
                </a:solidFill>
                <a:latin typeface="Arial"/>
              </a:rPr>
              <a:t>x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축과 평행하게 </a:t>
            </a:r>
            <a:r>
              <a:rPr b="0" i="1" lang="en-US" sz="1600" spc="-1" strike="noStrike">
                <a:solidFill>
                  <a:srgbClr val="009999"/>
                </a:solidFill>
                <a:latin typeface="Arial"/>
              </a:rPr>
              <a:t>dx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만큼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,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그리고 </a:t>
            </a:r>
            <a:r>
              <a:rPr b="0" i="1" lang="en-US" sz="1600" spc="-1" strike="noStrike">
                <a:solidFill>
                  <a:srgbClr val="009999"/>
                </a:solidFill>
                <a:latin typeface="Arial"/>
              </a:rPr>
              <a:t>y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축과 평행하게 </a:t>
            </a:r>
            <a:r>
              <a:rPr b="0" i="1" lang="en-US" sz="1600" spc="-1" strike="noStrike">
                <a:solidFill>
                  <a:srgbClr val="009999"/>
                </a:solidFill>
                <a:latin typeface="Arial"/>
              </a:rPr>
              <a:t>dy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만큼 움직여 새로운 점 </a:t>
            </a:r>
            <a:r>
              <a:rPr b="0" i="1" lang="en-US" sz="1600" spc="-1" strike="noStrike">
                <a:solidFill>
                  <a:srgbClr val="009999"/>
                </a:solidFill>
                <a:latin typeface="Arial"/>
              </a:rPr>
              <a:t>P</a:t>
            </a:r>
            <a:r>
              <a:rPr b="0" i="1" lang="en-US" sz="1600" spc="-1" strike="noStrike">
                <a:solidFill>
                  <a:srgbClr val="009999"/>
                </a:solidFill>
                <a:latin typeface="Symbol"/>
                <a:ea typeface="Symbol"/>
              </a:rPr>
              <a:t></a:t>
            </a:r>
            <a:r>
              <a:rPr b="0" i="1" lang="en-US" sz="1600" spc="-1" strike="noStrike">
                <a:solidFill>
                  <a:srgbClr val="009999"/>
                </a:solidFill>
                <a:latin typeface="Arial"/>
              </a:rPr>
              <a:t>(x </a:t>
            </a:r>
            <a:r>
              <a:rPr b="0" i="1" lang="en-US" sz="1600" spc="-1" strike="noStrike">
                <a:solidFill>
                  <a:srgbClr val="009999"/>
                </a:solidFill>
                <a:latin typeface="Symbol"/>
                <a:ea typeface="Symbol"/>
              </a:rPr>
              <a:t></a:t>
            </a:r>
            <a:r>
              <a:rPr b="0" i="1" lang="en-US" sz="1600" spc="-1" strike="noStrike">
                <a:solidFill>
                  <a:srgbClr val="009999"/>
                </a:solidFill>
                <a:latin typeface="Arial"/>
              </a:rPr>
              <a:t>,y </a:t>
            </a:r>
            <a:r>
              <a:rPr b="0" i="1" lang="en-US" sz="1600" spc="-1" strike="noStrike">
                <a:solidFill>
                  <a:srgbClr val="009999"/>
                </a:solidFill>
                <a:latin typeface="Symbol"/>
                <a:ea typeface="Symbol"/>
              </a:rPr>
              <a:t></a:t>
            </a:r>
            <a:r>
              <a:rPr b="0" i="1" lang="en-US" sz="1600" spc="-1" strike="noStrike">
                <a:solidFill>
                  <a:srgbClr val="009999"/>
                </a:solidFill>
                <a:latin typeface="Arial"/>
              </a:rPr>
              <a:t>)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으로 이동됨을 다음과 같이 나타낼 수 있습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다음과 같은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column vectors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를 정의한다면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식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(1.1)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은 좀더 간결하게 다음과 같이 나타낼 수 있습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3276720" y="4343400"/>
                <a:ext cx="525780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3276720" y="5791320"/>
                <a:ext cx="5251320" cy="36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+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                                                  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3276720" y="3276720"/>
                <a:ext cx="5248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{</m:t>
                        </m:r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                           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600" y="10267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6699"/>
                </a:solidFill>
                <a:latin typeface="Arial Narrow"/>
              </a:rPr>
              <a:t>2</a:t>
            </a:r>
            <a:r>
              <a:rPr b="0" lang="en-US" sz="4000" spc="-1" strike="noStrike">
                <a:solidFill>
                  <a:srgbClr val="336699"/>
                </a:solidFill>
                <a:latin typeface="Arial Narrow"/>
              </a:rPr>
              <a:t>D Transformations - Scaling</a:t>
            </a:r>
            <a:endParaRPr b="0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원점을 기준으로 한 점을 </a:t>
            </a:r>
            <a:r>
              <a:rPr b="0" i="1" lang="en-US" sz="1600" spc="-1" strike="noStrike">
                <a:solidFill>
                  <a:srgbClr val="009999"/>
                </a:solidFill>
                <a:latin typeface="Arial"/>
              </a:rPr>
              <a:t>x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축으로 </a:t>
            </a:r>
            <a:r>
              <a:rPr b="0" i="1" lang="en-US" sz="1600" spc="-1" strike="noStrike">
                <a:solidFill>
                  <a:srgbClr val="009999"/>
                </a:solidFill>
                <a:latin typeface="Arial"/>
              </a:rPr>
              <a:t>s</a:t>
            </a:r>
            <a:r>
              <a:rPr b="0" i="1" lang="en-US" sz="1200" spc="-1" strike="noStrike">
                <a:solidFill>
                  <a:srgbClr val="009999"/>
                </a:solidFill>
                <a:latin typeface="Arial"/>
              </a:rPr>
              <a:t>x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크기 만큼 그리고 </a:t>
            </a:r>
            <a:r>
              <a:rPr b="0" i="1" lang="en-US" sz="1600" spc="-1" strike="noStrike">
                <a:solidFill>
                  <a:srgbClr val="009999"/>
                </a:solidFill>
                <a:latin typeface="Arial"/>
              </a:rPr>
              <a:t>y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축으로 </a:t>
            </a:r>
            <a:r>
              <a:rPr b="0" i="1" lang="en-US" sz="1600" spc="-1" strike="noStrike">
                <a:solidFill>
                  <a:srgbClr val="009999"/>
                </a:solidFill>
                <a:latin typeface="Arial"/>
              </a:rPr>
              <a:t>s</a:t>
            </a:r>
            <a:r>
              <a:rPr b="0" i="1" lang="en-US" sz="1200" spc="-1" strike="noStrike">
                <a:solidFill>
                  <a:srgbClr val="009999"/>
                </a:solidFill>
                <a:latin typeface="Arial"/>
              </a:rPr>
              <a:t>y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크기 만큼 잡아 끌어 늘리거나 줄일 수 있습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이것을 수식으로 표현하면 다음과 같이 곱으로 표현 할 수 있습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Matrix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형태로 나타내면 다음과 같습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x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와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y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를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scale factors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라 부르며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, </a:t>
            </a:r>
            <a:r>
              <a:rPr b="0" i="1" lang="en-US" sz="1600" spc="-1" strike="noStrike">
                <a:solidFill>
                  <a:srgbClr val="009999"/>
                </a:solidFill>
                <a:latin typeface="Arial"/>
              </a:rPr>
              <a:t>s</a:t>
            </a:r>
            <a:r>
              <a:rPr b="0" i="1" lang="en-US" sz="1200" spc="-1" strike="noStrike">
                <a:solidFill>
                  <a:srgbClr val="009999"/>
                </a:solidFill>
                <a:latin typeface="Arial"/>
              </a:rPr>
              <a:t>x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9999"/>
                </a:solidFill>
                <a:latin typeface="Symbol"/>
                <a:ea typeface="Symbol"/>
              </a:rPr>
              <a:t>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9999"/>
                </a:solidFill>
                <a:latin typeface="Arial"/>
              </a:rPr>
              <a:t>s</a:t>
            </a:r>
            <a:r>
              <a:rPr b="0" i="1" lang="en-US" sz="1200" spc="-1" strike="noStrike">
                <a:solidFill>
                  <a:srgbClr val="009999"/>
                </a:solidFill>
                <a:latin typeface="Arial"/>
              </a:rPr>
              <a:t>y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이면 </a:t>
            </a:r>
            <a:r>
              <a:rPr b="0" i="1" lang="en-US" sz="1600" spc="-1" strike="noStrike">
                <a:solidFill>
                  <a:srgbClr val="009999"/>
                </a:solidFill>
                <a:latin typeface="Arial"/>
              </a:rPr>
              <a:t>differential (nonuniform)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 scaling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을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x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 =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s</a:t>
            </a: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y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이면 </a:t>
            </a:r>
            <a:r>
              <a:rPr b="0" i="1" lang="en-US" sz="1600" spc="-1" strike="noStrike">
                <a:solidFill>
                  <a:srgbClr val="009999"/>
                </a:solidFill>
                <a:latin typeface="Arial"/>
              </a:rPr>
              <a:t>uniform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 scaling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을 뜻합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3375000" y="3830760"/>
                <a:ext cx="4984920" cy="78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3352680" y="2819520"/>
                <a:ext cx="50752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{</m:t>
                        </m:r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                              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600" y="10267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6699"/>
                </a:solidFill>
                <a:latin typeface="Arial Narrow"/>
              </a:rPr>
              <a:t>2</a:t>
            </a:r>
            <a:r>
              <a:rPr b="0" lang="en-US" sz="4000" spc="-1" strike="noStrike">
                <a:solidFill>
                  <a:srgbClr val="336699"/>
                </a:solidFill>
                <a:latin typeface="Arial Narrow"/>
              </a:rPr>
              <a:t>D Transformations - Rotation</a:t>
            </a:r>
            <a:endParaRPr b="0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점을 원점을 중심으로 </a:t>
            </a:r>
            <a:r>
              <a:rPr b="0" i="1" lang="ko-KR" sz="1600" spc="-1" strike="noStrike">
                <a:solidFill>
                  <a:srgbClr val="009999"/>
                </a:solidFill>
                <a:latin typeface="Symbol"/>
                <a:ea typeface="Symbol"/>
              </a:rPr>
              <a:t>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 만큼 회전시킬 수 있습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이 회전 변형을 수학적으로 표현하면 다음과 같습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Matrix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형태로 나타내면 다음과 같습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Rotation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도 앞서 설명한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scaling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처럼 원점을 기준으로 합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임의의 점을 기준으로 한 회전은 다음 절에서 설명합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식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(1.6)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과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(1.7)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은 양의 각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positive angles)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을 사용한 것입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양각은 시계 반대방향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counterclockwise)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으로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x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축에서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y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축으로 측정됩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만일 음의 각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negative or clockwise angles)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을 사용한다면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cos(-</a:t>
            </a:r>
            <a:r>
              <a:rPr b="0" i="1" lang="en-US" sz="1600" spc="-1" strike="noStrike">
                <a:solidFill>
                  <a:srgbClr val="009999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)=cos</a:t>
            </a:r>
            <a:r>
              <a:rPr b="0" i="1" lang="en-US" sz="1600" spc="-1" strike="noStrike">
                <a:solidFill>
                  <a:srgbClr val="009999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, sin(-</a:t>
            </a:r>
            <a:r>
              <a:rPr b="0" i="1" lang="en-US" sz="1600" spc="-1" strike="noStrike">
                <a:solidFill>
                  <a:srgbClr val="009999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)=-sin</a:t>
            </a:r>
            <a:r>
              <a:rPr b="0" i="1" lang="en-US" sz="1600" spc="-1" strike="noStrike">
                <a:solidFill>
                  <a:srgbClr val="009999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임을 이용해 위 두 식에서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sin</a:t>
            </a:r>
            <a:r>
              <a:rPr b="0" i="1" lang="en-US" sz="1600" spc="-1" strike="noStrike">
                <a:solidFill>
                  <a:srgbClr val="009999"/>
                </a:solidFill>
                <a:latin typeface="Symbol"/>
                <a:ea typeface="Symbol"/>
              </a:rPr>
              <a:t></a:t>
            </a:r>
            <a:r>
              <a:rPr b="0" i="1" lang="en-US" sz="1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를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sin</a:t>
            </a:r>
            <a:r>
              <a:rPr b="0" i="1" lang="en-US" sz="1600" spc="-1" strike="noStrike">
                <a:solidFill>
                  <a:srgbClr val="009999"/>
                </a:solidFill>
                <a:latin typeface="Symbol"/>
                <a:ea typeface="Symbol"/>
              </a:rPr>
              <a:t></a:t>
            </a:r>
            <a:r>
              <a:rPr b="0" i="1" lang="en-US" sz="1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로 바꾸면 됩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3297240" y="3505320"/>
                <a:ext cx="523224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276720" y="2666880"/>
                <a:ext cx="542124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,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rPr>
                        <m:lit/>
                        <m:nor/>
                      </m:rPr>
                      <m:t xml:space="preserve">     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600" y="10267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336699"/>
                </a:solidFill>
                <a:latin typeface="Arial Narrow"/>
              </a:rPr>
              <a:t>2</a:t>
            </a:r>
            <a:r>
              <a:rPr b="0" lang="en-US" sz="4000" spc="-1" strike="noStrike">
                <a:solidFill>
                  <a:srgbClr val="336699"/>
                </a:solidFill>
                <a:latin typeface="Arial Narrow"/>
              </a:rPr>
              <a:t>D Transformations - Rotation(2)</a:t>
            </a:r>
            <a:endParaRPr b="0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식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(1.7)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을 음의 각으로 표현하면 다음과 같습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그림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1.1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을 보면 좀더 직관적으로 이해할 수 있습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아래 그림에서처럼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r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을 원점에서 점 </a:t>
            </a:r>
            <a:r>
              <a:rPr b="0" lang="en-US" sz="1600" spc="-1" strike="noStrike">
                <a:solidFill>
                  <a:srgbClr val="009999"/>
                </a:solidFill>
                <a:latin typeface="Arial"/>
              </a:rPr>
              <a:t>P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까지의 거리로 놓으면 다음과 같은 공식이 성립합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여기서 식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(1.10)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를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(1.9)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으로 대체하면 식 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(1.6)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과 같음을 알 수 있습니다</a:t>
            </a:r>
            <a:r>
              <a:rPr b="0" lang="ko-KR" sz="16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99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3297240" y="2438280"/>
                <a:ext cx="535932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3295800" y="4419720"/>
                <a:ext cx="546228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φ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φ</m:t>
                    </m:r>
                    <m:r>
                      <m:rPr>
                        <m:lit/>
                        <m:nor/>
                      </m:rPr>
                      <m:t xml:space="preserve">                                        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3276720" y="4876920"/>
                <a:ext cx="562608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φ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φ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</m:e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φ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θ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φ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θ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13" name=""/>
          <p:cNvGrpSpPr/>
          <p:nvPr/>
        </p:nvGrpSpPr>
        <p:grpSpPr>
          <a:xfrm>
            <a:off x="687600" y="3733200"/>
            <a:ext cx="1761120" cy="2105280"/>
            <a:chOff x="687600" y="3733200"/>
            <a:chExt cx="1761120" cy="2105280"/>
          </a:xfrm>
        </p:grpSpPr>
        <p:sp>
          <p:nvSpPr>
            <p:cNvPr id="114" name=""/>
            <p:cNvSpPr/>
            <p:nvPr/>
          </p:nvSpPr>
          <p:spPr>
            <a:xfrm flipV="1">
              <a:off x="761760" y="3962520"/>
              <a:ext cx="0" cy="129528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61760" y="5257800"/>
              <a:ext cx="144792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761760" y="4495320"/>
              <a:ext cx="609840" cy="76212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761760" y="4876920"/>
              <a:ext cx="990720" cy="38088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143000" y="5105520"/>
              <a:ext cx="75960" cy="152280"/>
            </a:xfrm>
            <a:prstGeom prst="line">
              <a:avLst/>
            </a:prstGeom>
            <a:ln w="6480">
              <a:solidFill>
                <a:srgbClr val="0099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90360" y="4952880"/>
              <a:ext cx="152640" cy="152640"/>
            </a:xfrm>
            <a:prstGeom prst="line">
              <a:avLst/>
            </a:prstGeom>
            <a:ln w="6480">
              <a:solidFill>
                <a:srgbClr val="009999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752120" y="4723920"/>
              <a:ext cx="427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9999"/>
                  </a:solidFill>
                  <a:latin typeface="Times New Roman"/>
                </a:rPr>
                <a:t>P</a:t>
              </a:r>
              <a:r>
                <a:rPr b="0" lang="en-US" sz="800" spc="-1" strike="noStrike">
                  <a:solidFill>
                    <a:srgbClr val="009999"/>
                  </a:solidFill>
                  <a:latin typeface="Times New Roman"/>
                </a:rPr>
                <a:t>(</a:t>
              </a:r>
              <a:r>
                <a:rPr b="0" i="1" lang="en-US" sz="800" spc="-1" strike="noStrike">
                  <a:solidFill>
                    <a:srgbClr val="009999"/>
                  </a:solidFill>
                  <a:latin typeface="Times New Roman"/>
                </a:rPr>
                <a:t>x,y</a:t>
              </a:r>
              <a:r>
                <a:rPr b="0" lang="en-US" sz="800" spc="-1" strike="noStrike">
                  <a:solidFill>
                    <a:srgbClr val="009999"/>
                  </a:solidFill>
                  <a:latin typeface="Times New Roman"/>
                </a:rPr>
                <a:t>)</a:t>
              </a: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323360" y="4342680"/>
              <a:ext cx="528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9999"/>
                  </a:solidFill>
                  <a:latin typeface="Times New Roman"/>
                </a:rPr>
                <a:t>P’</a:t>
              </a:r>
              <a:r>
                <a:rPr b="0" lang="en-US" sz="800" spc="-1" strike="noStrike">
                  <a:solidFill>
                    <a:srgbClr val="009999"/>
                  </a:solidFill>
                  <a:latin typeface="Times New Roman"/>
                </a:rPr>
                <a:t>(</a:t>
              </a:r>
              <a:r>
                <a:rPr b="0" i="1" lang="en-US" sz="800" spc="-1" strike="noStrike">
                  <a:solidFill>
                    <a:srgbClr val="009999"/>
                  </a:solidFill>
                  <a:latin typeface="Times New Roman"/>
                </a:rPr>
                <a:t>x’,y’</a:t>
              </a:r>
              <a:r>
                <a:rPr b="0" lang="en-US" sz="800" spc="-1" strike="noStrike">
                  <a:solidFill>
                    <a:srgbClr val="009999"/>
                  </a:solidFill>
                  <a:latin typeface="Times New Roman"/>
                </a:rPr>
                <a:t>)</a:t>
              </a: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998280" y="4600080"/>
              <a:ext cx="214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9999"/>
                  </a:solidFill>
                  <a:latin typeface="Times New Roman"/>
                </a:rPr>
                <a:t>r</a:t>
              </a: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20400" y="4876200"/>
              <a:ext cx="214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9999"/>
                  </a:solidFill>
                  <a:latin typeface="Times New Roman"/>
                </a:rPr>
                <a:t>r</a:t>
              </a: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991440" y="4876200"/>
              <a:ext cx="234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8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</a:t>
              </a: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144080" y="5028480"/>
              <a:ext cx="234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8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</a:t>
              </a: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211480" y="5104800"/>
              <a:ext cx="237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9999"/>
                  </a:solidFill>
                  <a:latin typeface="Times New Roman"/>
                </a:rPr>
                <a:t>x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87600" y="3733200"/>
              <a:ext cx="237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9999"/>
                  </a:solidFill>
                  <a:latin typeface="Times New Roman"/>
                </a:rPr>
                <a:t>y</a:t>
              </a:r>
              <a:endParaRPr b="0" lang="en-US" sz="1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371600" y="4495680"/>
              <a:ext cx="0" cy="762120"/>
            </a:xfrm>
            <a:prstGeom prst="line">
              <a:avLst/>
            </a:prstGeom>
            <a:ln cap="rnd" w="9360">
              <a:solidFill>
                <a:srgbClr val="0099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52480" y="4876920"/>
              <a:ext cx="0" cy="380880"/>
            </a:xfrm>
            <a:prstGeom prst="line">
              <a:avLst/>
            </a:prstGeom>
            <a:ln cap="rnd" w="9360">
              <a:solidFill>
                <a:srgbClr val="0099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989640" y="5257080"/>
              <a:ext cx="588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9999"/>
                  </a:solidFill>
                  <a:latin typeface="Times New Roman"/>
                </a:rPr>
                <a:t>r</a:t>
              </a:r>
              <a:r>
                <a:rPr b="0" lang="en-US" sz="800" spc="-1" strike="noStrike">
                  <a:solidFill>
                    <a:srgbClr val="009999"/>
                  </a:solidFill>
                  <a:latin typeface="Times New Roman"/>
                </a:rPr>
                <a:t>cos(</a:t>
              </a:r>
              <a:r>
                <a:rPr b="0" lang="en-US" sz="8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</a:t>
              </a:r>
              <a:r>
                <a:rPr b="0" lang="en-US" sz="800" spc="-1" strike="noStrike">
                  <a:solidFill>
                    <a:srgbClr val="009999"/>
                  </a:solidFill>
                  <a:latin typeface="Times New Roman"/>
                </a:rPr>
                <a:t>+</a:t>
              </a:r>
              <a:r>
                <a:rPr b="0" lang="en-US" sz="8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</a:t>
              </a:r>
              <a:r>
                <a:rPr b="0" lang="en-US" sz="800" spc="-1" strike="noStrike">
                  <a:solidFill>
                    <a:srgbClr val="009999"/>
                  </a:solidFill>
                  <a:latin typeface="Times New Roman"/>
                </a:rPr>
                <a:t>)</a:t>
              </a: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23880" y="5257080"/>
              <a:ext cx="410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9999"/>
                  </a:solidFill>
                  <a:latin typeface="Times New Roman"/>
                </a:rPr>
                <a:t>r</a:t>
              </a:r>
              <a:r>
                <a:rPr b="0" lang="en-US" sz="800" spc="-1" strike="noStrike">
                  <a:solidFill>
                    <a:srgbClr val="009999"/>
                  </a:solidFill>
                  <a:latin typeface="Times New Roman"/>
                </a:rPr>
                <a:t>cos</a:t>
              </a:r>
              <a:r>
                <a:rPr b="0" lang="en-US" sz="8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</a:t>
              </a:r>
              <a:endParaRPr b="0" lang="en-US" sz="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34280" y="5562000"/>
              <a:ext cx="63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9999"/>
                  </a:solidFill>
                  <a:latin typeface="Times New Roman"/>
                </a:rPr>
                <a:t>그림 </a:t>
              </a:r>
              <a:r>
                <a:rPr b="0" lang="ko-KR" sz="1200" spc="-1" strike="noStrike">
                  <a:solidFill>
                    <a:srgbClr val="009999"/>
                  </a:solidFill>
                  <a:latin typeface="Times New Roman"/>
                </a:rPr>
                <a:t>1.1</a:t>
              </a:r>
              <a:endParaRPr b="0" lang="en-US" sz="1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0T14:16:02Z</dcterms:created>
  <dc:creator>fairwave</dc:creator>
  <dc:description/>
  <dc:language>en-US</dc:language>
  <cp:lastModifiedBy>fairwave</cp:lastModifiedBy>
  <cp:lastPrinted>1997-02-26T15:00:00Z</cp:lastPrinted>
  <dcterms:modified xsi:type="dcterms:W3CDTF">1998-01-12T04:04:30Z</dcterms:modified>
  <cp:revision>12</cp:revision>
  <dc:subject/>
  <dc:title>Geometrical Transformations</dc:title>
</cp:coreProperties>
</file>