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135-C3E4-4E1E-8D73-1FE83DD9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F54-C58B-4129-8B8D-FE7DCCA4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8A7-1400-4E72-A272-F9026EA4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61F-369A-41F8-9374-082EA234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6C6F-869B-46CA-899D-E39484CF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2B8E-4495-4032-BE9F-185B2B30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3208-9ACC-488F-8BEF-AA6A6F7D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3A08-5582-4679-B523-D4C4F3D1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D157-682A-4F86-93BD-1C284275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16DC-0C67-41A9-BC44-CDC76453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A49B-9331-4F90-8C43-3690940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62D-DB90-4755-B9CD-C2F66117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FDE6-87BE-45E9-BA27-88740A86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5AF4-8735-489B-8E2F-978000B5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3631-EE83-4E1C-A41B-4E76639C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690A-6C21-4506-B5B5-3E74F335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2E5E-66AA-4F9C-8548-310B8C0E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95B-C422-47A4-B339-D9586A93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CC5-DB3F-437E-8BD9-43B800B7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8F7-6D40-4A5F-B8EE-4840982D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01A-8B97-49D9-BB5C-68ECD571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994-2B7D-4138-A154-DF46EF37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FA9-CBD7-4D23-841E-4291EFB8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015-8439-45C3-BA0F-A63AD1E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497B-9E71-41CB-87E8-AB357CFFC9F1}" type="slidenum">
              <a:rPr b="0" lang="ko-K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464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355-B225-4056-8D33-8E99DFCC085B}" type="slidenum">
              <a:rPr b="0" lang="ko-K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464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Geometrical Transformation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99"/>
                </a:solidFill>
                <a:latin typeface="Arial"/>
              </a:rPr>
              <a:t>김 병기</a:t>
            </a:r>
            <a:r>
              <a:rPr b="0" lang="ko-KR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airWav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앞서 기술한 것처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, 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표현할 수 있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런데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및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다른 연산을 취하기 때문에 이 세 가지 변환을 하나의 일관된 방식으로 묶기가 힘듭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러나 만약 점을 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동차 좌표계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mogeneous coordinates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상에서 표현을 하면 이 세 가지 변환을 하나의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곱으로 표현 할 수가 있게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좌표계 상의 점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동차 좌표계 상에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,w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표현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(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즉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간에서 표현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동차 좌표계의 특징으로 만약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,w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’,y’,w’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스칼라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배 관계이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즉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x,ty,tw) = (x’,y’,w’)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두 동차 좌표는 같은 점을 가리키게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예로 동차 좌표계 상의 두 점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2,3,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4,6,12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같은 점을 가리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105520" y="2514600"/>
                <a:ext cx="3028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(2)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동차 좌표계에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76720" y="2666880"/>
                <a:ext cx="514656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other expresstion is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(3)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4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앞선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같이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마찬가지로 정리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276720" y="2514600"/>
                <a:ext cx="524808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276720" y="4648320"/>
                <a:ext cx="52480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Affine Transformations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pecial Orthogonal Transformation Matrix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특징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변형을 가하기 전의 길이와 각이 변형한 이후에도 유지가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Affine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특징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변형을 가하기 전의 평행한 선들은 변형 이후에도 그 속성이 유지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rotation, translation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은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affine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에 속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그리고 이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formation 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들의 임의의 곱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affin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예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R(30</a:t>
            </a:r>
            <a:r>
              <a:rPr b="0" lang="en-US" sz="15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)•S(3,2)•T(10,10)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191120" y="3048120"/>
                <a:ext cx="4017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Affine Transformations(2)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hear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hear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affin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일종으로 두 가지 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축을 따라 기울이기와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축을 따라 기울이기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가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05320" y="3124080"/>
                <a:ext cx="51260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3793680" y="4648320"/>
            <a:ext cx="3759120" cy="1739160"/>
            <a:chOff x="3793680" y="4648320"/>
            <a:chExt cx="3759120" cy="1739160"/>
          </a:xfrm>
        </p:grpSpPr>
        <p:sp>
          <p:nvSpPr>
            <p:cNvPr id="150" name=""/>
            <p:cNvSpPr/>
            <p:nvPr/>
          </p:nvSpPr>
          <p:spPr>
            <a:xfrm>
              <a:off x="3886200" y="4800600"/>
              <a:ext cx="685800" cy="6094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6200000">
              <a:off x="6513840" y="4686120"/>
              <a:ext cx="761760" cy="685800"/>
            </a:xfrm>
            <a:prstGeom prst="parallelogram">
              <a:avLst>
                <a:gd name="adj" fmla="val 21979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4800600"/>
              <a:ext cx="914400" cy="609480"/>
            </a:xfrm>
            <a:prstGeom prst="parallelogram">
              <a:avLst>
                <a:gd name="adj" fmla="val 37507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93680" y="6019200"/>
              <a:ext cx="37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9999"/>
                  </a:solidFill>
                  <a:latin typeface="Times New Roman"/>
                </a:rPr>
                <a:t>그림 </a:t>
              </a:r>
              <a:r>
                <a:rPr b="0" lang="ko-KR" sz="1800" spc="-1" strike="noStrike">
                  <a:solidFill>
                    <a:srgbClr val="009999"/>
                  </a:solidFill>
                  <a:latin typeface="Times New Roman"/>
                </a:rPr>
                <a:t>1.2 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The primitive-shear operation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8720" y="5485680"/>
              <a:ext cx="130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 shea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in the x direc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50320" y="5485680"/>
              <a:ext cx="130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 shea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in the y direc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1320" y="5485680"/>
              <a:ext cx="88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Composition of 2D Transformations</a:t>
            </a:r>
            <a:endParaRPr b="0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임의의 점 </a:t>
            </a: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을 중심으로 회전하기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우리가 이미 알고 있는 세 가지의 기본적인 변환을 응용할 수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먼저 원점을 중심으로 회전할 수 있으므로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1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점으로 이동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late)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시킨 후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원점을 중심으로 회전시킨 다음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3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다시 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래 위치로 이동 시키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런 변환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곱으로 표현하면 다음과 같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429000" y="3962520"/>
                <a:ext cx="518472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Composition of 2D Transformations(2)</a:t>
            </a:r>
            <a:endParaRPr b="0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임의의 점 </a:t>
            </a: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을 중심으로 확대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축소하기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우리가 이미 알고 있는 세 가지의 기본적인 변환을 응용할 수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먼저 원점을 중심으로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할 수 있으므로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1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점으로 이동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late)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시킨 후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원점을 중심으로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한 다음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3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다시 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래 위치로 이동 시키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런 변환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곱으로 표현하면 다음과 같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429000" y="3962520"/>
                <a:ext cx="491796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336699"/>
                </a:solidFill>
                <a:latin typeface="Arial Narrow"/>
              </a:rPr>
              <a:t>들어가기에 앞서</a:t>
            </a:r>
            <a:endParaRPr b="0" lang="en-US" sz="4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57600" y="175248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본 내용은</a:t>
            </a:r>
            <a:r>
              <a:rPr b="0" lang="ko-K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uter Graphics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RINCIPLES AND PRACTICE (SECOND EDITION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의 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장의 내용을 정리한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puter Graphic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에 처음 입문 하시는 분들을 위해서 내용을 쉽게 설명하려고 노력하고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이미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.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잘 아시는 분들을 위해서 도움될 만한 공식들을 보기 좋게 요약해 놓으려고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앞으로 몇 차례에 걸쳐 나누어 정리하려고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먼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장의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1~3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절을 요약 정리 하였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Book Content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1752120"/>
            <a:ext cx="51055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5.1   2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5.2   Homogeneous Coordinates and Matrix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epresentation of 2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5.3   Composition of 2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.4 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he Window-to-Viewport Transformation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5   Efficiency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6   Matrix Representation of 3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7   Composition of 3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8   Transformations as a Change in Coordinat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Slide Content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600" y="1752480"/>
            <a:ext cx="5105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이란 무엇인가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Transl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Scaling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Rot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Homogeneous Coordinates and Matrix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Representation of 2D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ffine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hear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mposition of 2D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1028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Geometrical Transformations</a:t>
            </a:r>
            <a:r>
              <a:rPr b="0" lang="ko-KR" sz="2800" spc="-1" strike="noStrike">
                <a:solidFill>
                  <a:srgbClr val="336699"/>
                </a:solidFill>
                <a:latin typeface="Arial Narrow"/>
              </a:rPr>
              <a:t>이란 무엇인가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우리말로 번역을 하자면 ‘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기하학적인 변형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’이라 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예로 도시계획 응용 프로그램을 생각해 봅시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응용 프로그램은 건물과 나무들을 적절하게 배치시키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빛이 잘 들어오는 방향으로 건물을 돌려 놓기도 하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건물의 크기나 높이를 적당하게 조절하는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작업을 하게 될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러한 일련의 작업을 가리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라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(2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차원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(3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차원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상에서 표현되는 모든 기하학적인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ymbols(objects or templat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-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위에 예로 든 건물이나 나무와 같은 물체들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어떻게 변형하는지 그 방법을 앞으로 기술해 나가도록 하겠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Translation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우리는 </a:t>
            </a:r>
            <a:r>
              <a:rPr b="0" i="1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,y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평면상의 점들에 이동 변위를 더함으로써 새로운 위치로 이동 시킬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각 점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P(x,y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과 평행하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큼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과 평행하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큼 움직여 새로운 점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(x 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,y 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이동됨을 다음과 같이 나타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다음과 같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lumn vector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정의한다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좀더 간결하게 다음과 같이 나타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4343400"/>
                <a:ext cx="5257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76720" y="5791320"/>
                <a:ext cx="52513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             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76720" y="3276720"/>
                <a:ext cx="5248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Scaling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원점을 기준으로 한 점을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크기 만큼 그리고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크기 만큼 잡아 끌어 늘리거나 줄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것을 수식으로 표현하면 다음과 같이 곱으로 표현 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나타내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e factor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라 부르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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면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ifferential (nonuniform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면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uniform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scalin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뜻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75000" y="3830760"/>
                <a:ext cx="49849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52680" y="2819520"/>
                <a:ext cx="507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Rotation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점을 원점을 중심으로 </a:t>
            </a:r>
            <a:r>
              <a:rPr b="0" i="1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만큼 회전시킬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회전 변형을 수학적으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나타내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앞서 설명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처럼 원점을 기준으로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임의의 점을 기준으로 한 회전은 다음 절에서 설명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7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양의 각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ositive angl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사용한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양각은 시계 반대방향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unterclockwise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에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측정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일 음의 각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negative or clockwise angl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사용한다면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s(-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=cos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, sin(-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=-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임을 이용해 위 두 식에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바꾸면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97240" y="3505320"/>
                <a:ext cx="5232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76720" y="2666880"/>
                <a:ext cx="5421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Rotation(2)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7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음의 각으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1.1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보면 좀더 직관적으로 이해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아래 그림에서처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원점에서 점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까지의 거리로 놓으면 다음과 같은 공식이 성립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여기서 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0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9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대체하면 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같음을 알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97240" y="2438280"/>
                <a:ext cx="5359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95800" y="4419720"/>
                <a:ext cx="54622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         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76720" y="4876920"/>
                <a:ext cx="5626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687600" y="3733200"/>
            <a:ext cx="1761120" cy="2105280"/>
            <a:chOff x="687600" y="3733200"/>
            <a:chExt cx="1761120" cy="2105280"/>
          </a:xfrm>
        </p:grpSpPr>
        <p:sp>
          <p:nvSpPr>
            <p:cNvPr id="114" name=""/>
            <p:cNvSpPr/>
            <p:nvPr/>
          </p:nvSpPr>
          <p:spPr>
            <a:xfrm flipV="1">
              <a:off x="761760" y="3962520"/>
              <a:ext cx="0" cy="1295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1760" y="5257800"/>
              <a:ext cx="1447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61760" y="4495320"/>
              <a:ext cx="609840" cy="762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61760" y="4876920"/>
              <a:ext cx="990720" cy="3808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5105520"/>
              <a:ext cx="75960" cy="152280"/>
            </a:xfrm>
            <a:prstGeom prst="line">
              <a:avLst/>
            </a:prstGeom>
            <a:ln w="6480">
              <a:solidFill>
                <a:srgbClr val="0099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360" y="4952880"/>
              <a:ext cx="152640" cy="152640"/>
            </a:xfrm>
            <a:prstGeom prst="line">
              <a:avLst/>
            </a:prstGeom>
            <a:ln w="6480">
              <a:solidFill>
                <a:srgbClr val="0099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52120" y="4723920"/>
              <a:ext cx="42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x,y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23360" y="4342680"/>
              <a:ext cx="52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P’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x’,y’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98280" y="460008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0400" y="487620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1440" y="4876200"/>
              <a:ext cx="23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4080" y="5028480"/>
              <a:ext cx="23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11480" y="5104800"/>
              <a:ext cx="23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9999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600" y="3733200"/>
              <a:ext cx="23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9999"/>
                  </a:solidFill>
                  <a:latin typeface="Times New Roman"/>
                </a:rPr>
                <a:t>y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71600" y="4495680"/>
              <a:ext cx="0" cy="762120"/>
            </a:xfrm>
            <a:prstGeom prst="line">
              <a:avLst/>
            </a:prstGeom>
            <a:ln cap="rnd" w="9360">
              <a:solidFill>
                <a:srgbClr val="0099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cap="rnd" w="9360">
              <a:solidFill>
                <a:srgbClr val="0099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89640" y="5257080"/>
              <a:ext cx="58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cos(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+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525708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cos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34280" y="5562000"/>
              <a:ext cx="63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9999"/>
                  </a:solidFill>
                  <a:latin typeface="Times New Roman"/>
                </a:rPr>
                <a:t>그림 </a:t>
              </a:r>
              <a:r>
                <a:rPr b="0" lang="ko-KR" sz="1200" spc="-1" strike="noStrike">
                  <a:solidFill>
                    <a:srgbClr val="009999"/>
                  </a:solidFill>
                  <a:latin typeface="Times New Roman"/>
                </a:rPr>
                <a:t>1.1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0T14:16:02Z</dcterms:created>
  <dc:creator>fairwave</dc:creator>
  <dc:description/>
  <dc:language>en-US</dc:language>
  <cp:lastModifiedBy>fairwave</cp:lastModifiedBy>
  <cp:lastPrinted>1997-02-26T15:00:00Z</cp:lastPrinted>
  <dcterms:modified xsi:type="dcterms:W3CDTF">1998-01-13T05:45:36Z</dcterms:modified>
  <cp:revision>13</cp:revision>
  <dc:subject/>
  <dc:title>Geometrical Transformations</dc:title>
</cp:coreProperties>
</file>