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AF6-0EC0-4052-BB8C-3D0BECB5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F4A-40E4-4BBB-BC93-B24C6B7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AE1-A27F-42CD-898D-DC9E922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D72-E07A-48E9-B149-AB25D479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EE3-8C63-4612-83B4-A215D0DB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1537-FB3B-4FB3-8ECF-6C6FDCD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FC78-2B1F-4F00-8C8D-917DB75D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83FE-F269-4984-8B57-29988DE0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B90-5A18-4F84-B2B9-225C78F6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5764-8A1F-451E-95DA-2B55DE3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7B2-3780-47F3-A653-9E3E8E3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E80-FF4B-407F-B49B-794F0F3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2C0-F8D5-4364-894F-F2C1775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2199-D340-4846-93D5-EBF14FA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733-A52C-4C05-BA54-44AB2BC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87D2-57C4-430D-8566-0749ACE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EE9-1AF7-4C55-A533-08BC1B36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3DA-1141-490B-B13E-8A32266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E88-8998-4D79-BAD8-4CBDE40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CD0-A816-4274-AA9D-2168FC9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1BA-A9F3-400E-92E4-0B7D4DE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421-EA6B-4441-B825-DDA7148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4A4-ABCC-43F2-ACB5-122CEE9A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5F5-6A24-46B3-BE34-4D38A0F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C39-C582-4071-80FF-F353C93E26DF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22EB-B7B5-4297-BFA7-59D7F0727894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김 병기</a:t>
            </a: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irWav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서 기술한 것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,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할 수 있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런데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및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다른 연산을 취하기 때문에 이 세 가지 변환을 하나의 일관된 방식으로 묶기가 힘듭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러나 만약 점을 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동차 좌표계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mogeneous coordinates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을 하면 이 세 가지 변환을 하나의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곱으로 표현 할 수가 있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좌표계 상의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동차 좌표계 상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간에서 표현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동차 좌표계의 특징으로 만약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’,y’,w’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스칼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배 관계이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x,ty,tw) = (x’,y’,w’)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두 동차 좌표는 같은 점을 가리키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동차 좌표계 상의 두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2,3,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4,6,12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같은 점을 가리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105520" y="2514600"/>
                <a:ext cx="3028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2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동차 좌표계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2666880"/>
                <a:ext cx="51465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other expresstion is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3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4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이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마찬가지로 정리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2514600"/>
                <a:ext cx="52480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276720" y="4648320"/>
                <a:ext cx="5248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pecial Orthogonal Transformation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길이와 각이 변형한 이후에도 유지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평행한 선들은 변형 이후에도 그 속성이 유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otation, translation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affine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에 속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이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formation 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들의 임의의 곱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예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(30</a:t>
            </a:r>
            <a:r>
              <a:rPr b="0" lang="en-US" sz="15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)•S(3,2)•T(10,10)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91120" y="3048120"/>
                <a:ext cx="4017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hear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일종으로 두 가지 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와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가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05320" y="3124080"/>
                <a:ext cx="51260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3793680" y="4648320"/>
            <a:ext cx="3759120" cy="1739160"/>
            <a:chOff x="3793680" y="4648320"/>
            <a:chExt cx="3759120" cy="1739160"/>
          </a:xfrm>
        </p:grpSpPr>
        <p:sp>
          <p:nvSpPr>
            <p:cNvPr id="150" name=""/>
            <p:cNvSpPr/>
            <p:nvPr/>
          </p:nvSpPr>
          <p:spPr>
            <a:xfrm>
              <a:off x="3886200" y="4800600"/>
              <a:ext cx="685800" cy="6094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6513840" y="4686120"/>
              <a:ext cx="761760" cy="685800"/>
            </a:xfrm>
            <a:prstGeom prst="parallelogram">
              <a:avLst>
                <a:gd name="adj" fmla="val 21979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4800600"/>
              <a:ext cx="914400" cy="609480"/>
            </a:xfrm>
            <a:prstGeom prst="parallelogram">
              <a:avLst>
                <a:gd name="adj" fmla="val 37507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3680" y="601920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1.2 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The primitive-shear operation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7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x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03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y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1320" y="5485680"/>
              <a:ext cx="88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회전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회전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회전시킨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3962520"/>
                <a:ext cx="518472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(2)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확대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축소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한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29000" y="3962520"/>
                <a:ext cx="491796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336699"/>
                </a:solidFill>
                <a:latin typeface="Arial Narrow"/>
              </a:rPr>
              <a:t>들어가기에 앞서</a:t>
            </a:r>
            <a:endParaRPr b="0" lang="en-US" sz="4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본 내용은</a:t>
            </a: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uter Graphic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RINCIPLES AND PRACTICE (SECOND EDITI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의 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내용을 정리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puter Graphic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에 처음 입문 하시는 분들을 위해서 내용을 쉽게 설명하려고 노력하고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이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.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잘 아시는 분들을 위해서 도움될 만한 공식들을 보기 좋게 요약해 놓으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으로 몇 차례에 걸쳐 나누어 정리하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먼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~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절을 요약 정리 하였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Book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17521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5.1   2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2   Homogeneous Coordinates and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3   Composi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.4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Window-to-Viewport Transformatio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5   Efficienc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6   Matrix Representa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7   Composi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8   Transformations as a Change in Coordinat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Slide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이란 무엇인가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Transl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Scaling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Rot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Homogeneous Coordinates and Matrix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mposi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r>
              <a:rPr b="0" lang="ko-KR" sz="2800" spc="-1" strike="noStrike">
                <a:solidFill>
                  <a:srgbClr val="336699"/>
                </a:solidFill>
                <a:latin typeface="Arial Narrow"/>
              </a:rPr>
              <a:t>이란 무엇인가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우리말로 번역을 하자면 ‘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기하학적인 변형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’이라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도시계획 응용 프로그램을 생각해 봅시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응용 프로그램은 건물과 나무들을 적절하게 배치시키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빛이 잘 들어오는 방향으로 건물을 돌려 놓기도 하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건물의 크기나 높이를 적당하게 조절하는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작업을 하게 될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러한 일련의 작업을 가리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라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2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되는 모든 기하학적인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ymbols(objects or templat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위에 예로 든 건물이나 나무와 같은 물체들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어떻게 변형하는지 그 방법을 앞으로 기술해 나가도록 하겠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Transl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우리는 </a:t>
            </a:r>
            <a:r>
              <a:rPr b="0" i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평면상의 점들에 이동 변위를 더함으로써 새로운 위치로 이동 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각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(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 움직여 새로운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(x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,y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이동됨을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다음과 같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lumn ve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정의한다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좀더 간결하게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4343400"/>
                <a:ext cx="5257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76720" y="5791320"/>
                <a:ext cx="5251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3276720"/>
                <a:ext cx="524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Scaling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원점을 기준으로 한 점을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잡아 끌어 늘리거나 줄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것을 수식으로 표현하면 다음과 같이 곱으로 표현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e fa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라 부르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ifferential (nonuniform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uniform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뜻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75000" y="3830760"/>
                <a:ext cx="49849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52680" y="2819520"/>
                <a:ext cx="507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점을 원점을 중심으로 </a:t>
            </a:r>
            <a:r>
              <a:rPr b="0" i="1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만큼 회전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회전 변형을 수학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서 설명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처럼 원점을 기준으로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의의 점을 기준으로 한 회전은 다음 절에서 설명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양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ositiv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양각은 시계 반대방향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unterclockwise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측정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일 음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negative or clockwis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다면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s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cos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 sin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-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을 이용해 위 두 식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바꾸면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97240" y="3505320"/>
                <a:ext cx="523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76720" y="2666880"/>
                <a:ext cx="5421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음의 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.1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보면 좀더 직관적으로 이해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아래 그림에서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원점에서 점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까지의 거리로 놓으면 다음과 같은 공식이 성립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여기서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0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9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대체하면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음을 알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97240" y="2438280"/>
                <a:ext cx="5359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95800" y="4419720"/>
                <a:ext cx="54622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76720" y="4876920"/>
                <a:ext cx="5626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687600" y="3733200"/>
            <a:ext cx="1761120" cy="2105280"/>
            <a:chOff x="687600" y="3733200"/>
            <a:chExt cx="1761120" cy="2105280"/>
          </a:xfrm>
        </p:grpSpPr>
        <p:sp>
          <p:nvSpPr>
            <p:cNvPr id="114" name=""/>
            <p:cNvSpPr/>
            <p:nvPr/>
          </p:nvSpPr>
          <p:spPr>
            <a:xfrm flipV="1">
              <a:off x="761760" y="3962520"/>
              <a:ext cx="0" cy="1295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760" y="52578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61760" y="4495320"/>
              <a:ext cx="609840" cy="762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61760" y="4876920"/>
              <a:ext cx="990720" cy="380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105520"/>
              <a:ext cx="75960" cy="15228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360" y="4952880"/>
              <a:ext cx="152640" cy="15264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2120" y="4723920"/>
              <a:ext cx="42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,y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23360" y="434268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’,y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8280" y="46000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0400" y="48762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1440" y="487620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4080" y="502848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1480" y="51048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600" y="37332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4495680"/>
              <a:ext cx="0" cy="76212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9640" y="5257080"/>
              <a:ext cx="58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(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+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25708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4280" y="5562000"/>
              <a:ext cx="63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1.1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4:16:02Z</dcterms:created>
  <dc:creator>fairwave</dc:creator>
  <dc:description/>
  <dc:language>en-US</dc:language>
  <cp:lastModifiedBy>fairwave</cp:lastModifiedBy>
  <cp:lastPrinted>1997-02-26T15:00:00Z</cp:lastPrinted>
  <dcterms:modified xsi:type="dcterms:W3CDTF">1998-01-13T05:45:36Z</dcterms:modified>
  <cp:revision>13</cp:revision>
  <dc:subject/>
  <dc:title>Geometrical Transformations</dc:title>
</cp:coreProperties>
</file>