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022-1E0F-4A9E-BD1E-4836DA8A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16D-911C-4B1F-8933-2AE8D6DC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5CC-84A8-4693-9DE6-2183EE15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0CF-D703-42CF-BE09-19F21195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E6E-F27A-405D-A4FE-D0F45B89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141-5AC6-4679-B9D7-A3F01D22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E96-8AB1-42CC-94B0-C74C918F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F46-54DA-4A31-842F-C4D5FC1F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492-3A16-4F4A-A375-FDA61625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5AB-09FE-431E-BF14-A392BF7F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49F-4173-464D-8CF6-A3B3BFD8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74C-A91B-4F08-8701-D91F7A91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0D29-17CF-4461-A66A-3B65107C0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838080"/>
            <a:ext cx="190512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splashform.s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스플래쉬윈도우 보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1981080"/>
            <a:ext cx="128880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FormCre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메인폼 생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21360" y="3639960"/>
            <a:ext cx="112716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ai_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환경설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3716280"/>
            <a:ext cx="157644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diaplayer1.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배경음악 연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3733920"/>
            <a:ext cx="1981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Timer1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입력이 없을시 시간체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96080" y="5029200"/>
            <a:ext cx="1013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혼자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4835520" y="1312920"/>
            <a:ext cx="3600" cy="668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2" idx="2"/>
            <a:endCxn id="44" idx="0"/>
          </p:cNvCxnSpPr>
          <p:nvPr/>
        </p:nvCxnSpPr>
        <p:spPr>
          <a:xfrm flipH="1">
            <a:off x="2235960" y="2455920"/>
            <a:ext cx="2599920" cy="126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2" idx="2"/>
            <a:endCxn id="43" idx="0"/>
          </p:cNvCxnSpPr>
          <p:nvPr/>
        </p:nvCxnSpPr>
        <p:spPr>
          <a:xfrm>
            <a:off x="4835520" y="2455920"/>
            <a:ext cx="849600" cy="11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2" idx="2"/>
            <a:endCxn id="45" idx="0"/>
          </p:cNvCxnSpPr>
          <p:nvPr/>
        </p:nvCxnSpPr>
        <p:spPr>
          <a:xfrm>
            <a:off x="4835520" y="2455920"/>
            <a:ext cx="2784600" cy="127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5" idx="2"/>
            <a:endCxn id="46" idx="0"/>
          </p:cNvCxnSpPr>
          <p:nvPr/>
        </p:nvCxnSpPr>
        <p:spPr>
          <a:xfrm>
            <a:off x="7619760" y="4267080"/>
            <a:ext cx="5832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3505320" y="5486400"/>
            <a:ext cx="123804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ow_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로고를 보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4191120"/>
            <a:ext cx="135108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FormActiv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메인폼 활성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5087880"/>
            <a:ext cx="168912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MediaPlayer1Not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미디연주기 점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2" idx="2"/>
            <a:endCxn id="53" idx="0"/>
          </p:cNvCxnSpPr>
          <p:nvPr/>
        </p:nvCxnSpPr>
        <p:spPr>
          <a:xfrm flipH="1">
            <a:off x="4332960" y="2455920"/>
            <a:ext cx="502920" cy="173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4" idx="2"/>
            <a:endCxn id="54" idx="0"/>
          </p:cNvCxnSpPr>
          <p:nvPr/>
        </p:nvCxnSpPr>
        <p:spPr>
          <a:xfrm flipH="1">
            <a:off x="1606680" y="4191120"/>
            <a:ext cx="629640" cy="897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3" idx="2"/>
            <a:endCxn id="52" idx="0"/>
          </p:cNvCxnSpPr>
          <p:nvPr/>
        </p:nvCxnSpPr>
        <p:spPr>
          <a:xfrm flipH="1">
            <a:off x="4124160" y="4665600"/>
            <a:ext cx="209160" cy="82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534960" y="3808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000000"/>
                </a:solidFill>
                <a:uFillTx/>
                <a:latin typeface="Arial"/>
              </a:rPr>
              <a:t>Struct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5943600"/>
            <a:ext cx="123840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Tray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트레이로 시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3" idx="2"/>
            <a:endCxn id="59" idx="0"/>
          </p:cNvCxnSpPr>
          <p:nvPr/>
        </p:nvCxnSpPr>
        <p:spPr>
          <a:xfrm>
            <a:off x="4332960" y="4665600"/>
            <a:ext cx="1696680" cy="1278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5504400" y="2954160"/>
            <a:ext cx="70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rst_ex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처음시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49960" y="3048120"/>
            <a:ext cx="304200" cy="380880"/>
            <a:chOff x="5349960" y="3048120"/>
            <a:chExt cx="304200" cy="380880"/>
          </a:xfrm>
        </p:grpSpPr>
        <p:sp>
          <p:nvSpPr>
            <p:cNvPr id="63" name=""/>
            <p:cNvSpPr/>
            <p:nvPr/>
          </p:nvSpPr>
          <p:spPr>
            <a:xfrm>
              <a:off x="5425920" y="3124440"/>
              <a:ext cx="22824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49960" y="304812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31800" y="3171240"/>
            <a:ext cx="371160" cy="393480"/>
            <a:chOff x="5131800" y="3171240"/>
            <a:chExt cx="371160" cy="393480"/>
          </a:xfrm>
        </p:grpSpPr>
        <p:sp>
          <p:nvSpPr>
            <p:cNvPr id="66" name=""/>
            <p:cNvSpPr/>
            <p:nvPr/>
          </p:nvSpPr>
          <p:spPr>
            <a:xfrm flipH="1" flipV="1">
              <a:off x="5131800" y="3171240"/>
              <a:ext cx="28656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529800">
              <a:off x="5425920" y="34873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614840" y="31827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사람이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00520" y="338616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컴퓨터이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590920"/>
            <a:ext cx="108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Backmusic_fl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65120" y="2858040"/>
            <a:ext cx="451440" cy="205560"/>
            <a:chOff x="3165120" y="2858040"/>
            <a:chExt cx="451440" cy="205560"/>
          </a:xfrm>
        </p:grpSpPr>
        <p:sp>
          <p:nvSpPr>
            <p:cNvPr id="72" name=""/>
            <p:cNvSpPr/>
            <p:nvPr/>
          </p:nvSpPr>
          <p:spPr>
            <a:xfrm flipH="1">
              <a:off x="3165120" y="2930760"/>
              <a:ext cx="3567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6384000">
              <a:off x="3531240" y="286704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294520" y="5204160"/>
            <a:ext cx="383400" cy="318240"/>
            <a:chOff x="5294520" y="5204160"/>
            <a:chExt cx="383400" cy="318240"/>
          </a:xfrm>
        </p:grpSpPr>
        <p:sp>
          <p:nvSpPr>
            <p:cNvPr id="75" name=""/>
            <p:cNvSpPr/>
            <p:nvPr/>
          </p:nvSpPr>
          <p:spPr>
            <a:xfrm>
              <a:off x="5385960" y="5278320"/>
              <a:ext cx="29196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0805600">
              <a:off x="5302080" y="521172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336280" y="5029200"/>
            <a:ext cx="70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y_st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004640" y="4872240"/>
            <a:ext cx="187200" cy="466200"/>
            <a:chOff x="4004640" y="4872240"/>
            <a:chExt cx="187200" cy="466200"/>
          </a:xfrm>
        </p:grpSpPr>
        <p:sp>
          <p:nvSpPr>
            <p:cNvPr id="79" name=""/>
            <p:cNvSpPr/>
            <p:nvPr/>
          </p:nvSpPr>
          <p:spPr>
            <a:xfrm flipH="1">
              <a:off x="4004640" y="4978080"/>
              <a:ext cx="12384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3352200">
              <a:off x="4100400" y="48870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413880" y="486108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o_fl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57440" y="4426200"/>
            <a:ext cx="290160" cy="408600"/>
            <a:chOff x="1657440" y="4426200"/>
            <a:chExt cx="290160" cy="408600"/>
          </a:xfrm>
        </p:grpSpPr>
        <p:sp>
          <p:nvSpPr>
            <p:cNvPr id="83" name=""/>
            <p:cNvSpPr/>
            <p:nvPr/>
          </p:nvSpPr>
          <p:spPr>
            <a:xfrm flipH="1">
              <a:off x="1657440" y="4522320"/>
              <a:ext cx="21780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4303800">
              <a:off x="1861200" y="443592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322280" y="43257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음악종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81640" y="4582800"/>
            <a:ext cx="300960" cy="399960"/>
            <a:chOff x="1781640" y="4582800"/>
            <a:chExt cx="300960" cy="399960"/>
          </a:xfrm>
        </p:grpSpPr>
        <p:sp>
          <p:nvSpPr>
            <p:cNvPr id="87" name=""/>
            <p:cNvSpPr/>
            <p:nvPr/>
          </p:nvSpPr>
          <p:spPr>
            <a:xfrm flipV="1">
              <a:off x="1855080" y="4582800"/>
              <a:ext cx="227520" cy="30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5214800">
              <a:off x="1790640" y="48970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144880" y="46054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다시연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m3 / design by forhum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49B-704E-4010-A293-A42311A11D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76720" y="762120"/>
            <a:ext cx="2209680" cy="59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chat_windowKeyP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채팅창에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998720"/>
            <a:ext cx="137160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reserve_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예약어 검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124080"/>
            <a:ext cx="1523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reserve_ex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예약어 처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1887480"/>
            <a:ext cx="129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proc_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질문처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4038480"/>
            <a:ext cx="121896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proc_ai_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컴퓨터의 질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335400"/>
            <a:ext cx="129564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proc_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대답처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4343400"/>
            <a:ext cx="1295280" cy="5335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ve_pengu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펭귄을 움직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0" idx="2"/>
            <a:endCxn id="91" idx="0"/>
          </p:cNvCxnSpPr>
          <p:nvPr/>
        </p:nvCxnSpPr>
        <p:spPr>
          <a:xfrm flipH="1">
            <a:off x="2971440" y="1353600"/>
            <a:ext cx="141048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1" idx="2"/>
            <a:endCxn id="92" idx="0"/>
          </p:cNvCxnSpPr>
          <p:nvPr/>
        </p:nvCxnSpPr>
        <p:spPr>
          <a:xfrm flipH="1">
            <a:off x="2818800" y="2514240"/>
            <a:ext cx="1530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0" idx="2"/>
            <a:endCxn id="93" idx="0"/>
          </p:cNvCxnSpPr>
          <p:nvPr/>
        </p:nvCxnSpPr>
        <p:spPr>
          <a:xfrm>
            <a:off x="4381200" y="135396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3" idx="2"/>
            <a:endCxn id="94" idx="0"/>
          </p:cNvCxnSpPr>
          <p:nvPr/>
        </p:nvCxnSpPr>
        <p:spPr>
          <a:xfrm flipH="1">
            <a:off x="5028840" y="2437920"/>
            <a:ext cx="57240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93" idx="2"/>
            <a:endCxn id="95" idx="0"/>
          </p:cNvCxnSpPr>
          <p:nvPr/>
        </p:nvCxnSpPr>
        <p:spPr>
          <a:xfrm>
            <a:off x="5600880" y="2438280"/>
            <a:ext cx="915120" cy="89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5" idx="2"/>
            <a:endCxn id="94" idx="0"/>
          </p:cNvCxnSpPr>
          <p:nvPr/>
        </p:nvCxnSpPr>
        <p:spPr>
          <a:xfrm flipH="1">
            <a:off x="5028840" y="3809520"/>
            <a:ext cx="14868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1905120" y="5257800"/>
            <a:ext cx="1143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search_e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단어 검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26708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search_j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주소검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4478400"/>
            <a:ext cx="91440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exec_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화일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571500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proc_j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조사처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47242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proc_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기호처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913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jong_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종성  검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95" idx="2"/>
            <a:endCxn id="96" idx="0"/>
          </p:cNvCxnSpPr>
          <p:nvPr/>
        </p:nvCxnSpPr>
        <p:spPr>
          <a:xfrm>
            <a:off x="6515280" y="3809880"/>
            <a:ext cx="12960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5" idx="2"/>
            <a:endCxn id="107" idx="0"/>
          </p:cNvCxnSpPr>
          <p:nvPr/>
        </p:nvCxnSpPr>
        <p:spPr>
          <a:xfrm flipH="1">
            <a:off x="6285960" y="380988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7" idx="2"/>
            <a:endCxn id="106" idx="0"/>
          </p:cNvCxnSpPr>
          <p:nvPr/>
        </p:nvCxnSpPr>
        <p:spPr>
          <a:xfrm>
            <a:off x="6286680" y="5181480"/>
            <a:ext cx="1638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7" idx="2"/>
            <a:endCxn id="108" idx="0"/>
          </p:cNvCxnSpPr>
          <p:nvPr/>
        </p:nvCxnSpPr>
        <p:spPr>
          <a:xfrm flipH="1">
            <a:off x="5714640" y="5181480"/>
            <a:ext cx="5724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92" idx="2"/>
            <a:endCxn id="105" idx="0"/>
          </p:cNvCxnSpPr>
          <p:nvPr/>
        </p:nvCxnSpPr>
        <p:spPr>
          <a:xfrm>
            <a:off x="2819520" y="3657600"/>
            <a:ext cx="762480" cy="82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92" idx="2"/>
            <a:endCxn id="103" idx="0"/>
          </p:cNvCxnSpPr>
          <p:nvPr/>
        </p:nvCxnSpPr>
        <p:spPr>
          <a:xfrm flipH="1">
            <a:off x="2475720" y="3657240"/>
            <a:ext cx="34380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92" idx="2"/>
            <a:endCxn id="104" idx="0"/>
          </p:cNvCxnSpPr>
          <p:nvPr/>
        </p:nvCxnSpPr>
        <p:spPr>
          <a:xfrm flipH="1">
            <a:off x="1218600" y="3657240"/>
            <a:ext cx="16009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534960" y="3808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000000"/>
                </a:solidFill>
                <a:uFillTx/>
                <a:latin typeface="Arial"/>
              </a:rPr>
              <a:t>Struct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609480"/>
            <a:ext cx="1143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_in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인칭결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1600200"/>
            <a:ext cx="1249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arch_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의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평서결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297180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arch_no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항목검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240160"/>
            <a:ext cx="99036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nd_i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항목검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93" idx="3"/>
            <a:endCxn id="118" idx="1"/>
          </p:cNvCxnSpPr>
          <p:nvPr/>
        </p:nvCxnSpPr>
        <p:spPr>
          <a:xfrm flipV="1">
            <a:off x="6248160" y="1904760"/>
            <a:ext cx="1448280" cy="259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93" idx="3"/>
            <a:endCxn id="117" idx="1"/>
          </p:cNvCxnSpPr>
          <p:nvPr/>
        </p:nvCxnSpPr>
        <p:spPr>
          <a:xfrm flipV="1">
            <a:off x="6248520" y="875880"/>
            <a:ext cx="838800" cy="1288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3" idx="3"/>
            <a:endCxn id="119" idx="1"/>
          </p:cNvCxnSpPr>
          <p:nvPr/>
        </p:nvCxnSpPr>
        <p:spPr>
          <a:xfrm>
            <a:off x="6248520" y="2163600"/>
            <a:ext cx="1372320" cy="1075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94" idx="2"/>
            <a:endCxn id="120" idx="0"/>
          </p:cNvCxnSpPr>
          <p:nvPr/>
        </p:nvCxnSpPr>
        <p:spPr>
          <a:xfrm flipH="1">
            <a:off x="4228920" y="4512960"/>
            <a:ext cx="800640" cy="727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125880" y="266688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예약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329280" y="1469880"/>
            <a:ext cx="427680" cy="246960"/>
            <a:chOff x="3329280" y="1469880"/>
            <a:chExt cx="427680" cy="246960"/>
          </a:xfrm>
        </p:grpSpPr>
        <p:sp>
          <p:nvSpPr>
            <p:cNvPr id="127" name=""/>
            <p:cNvSpPr/>
            <p:nvPr/>
          </p:nvSpPr>
          <p:spPr>
            <a:xfrm flipH="1">
              <a:off x="3329280" y="1544760"/>
              <a:ext cx="339480" cy="17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998800">
              <a:off x="3674520" y="147564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036040" y="1502280"/>
            <a:ext cx="443160" cy="237960"/>
            <a:chOff x="5036040" y="1502280"/>
            <a:chExt cx="443160" cy="237960"/>
          </a:xfrm>
        </p:grpSpPr>
        <p:sp>
          <p:nvSpPr>
            <p:cNvPr id="130" name=""/>
            <p:cNvSpPr/>
            <p:nvPr/>
          </p:nvSpPr>
          <p:spPr>
            <a:xfrm>
              <a:off x="5138280" y="1570680"/>
              <a:ext cx="34092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9998600">
              <a:off x="5049000" y="151524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310360" y="13716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질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93560" y="896040"/>
            <a:ext cx="195120" cy="264600"/>
            <a:chOff x="6793560" y="896040"/>
            <a:chExt cx="195120" cy="264600"/>
          </a:xfrm>
        </p:grpSpPr>
        <p:sp>
          <p:nvSpPr>
            <p:cNvPr id="134" name=""/>
            <p:cNvSpPr/>
            <p:nvPr/>
          </p:nvSpPr>
          <p:spPr>
            <a:xfrm flipV="1">
              <a:off x="6838200" y="896040"/>
              <a:ext cx="15048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5603000">
              <a:off x="6792120" y="1105560"/>
              <a:ext cx="57240" cy="45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513480" y="76212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질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12680" y="1429560"/>
            <a:ext cx="195120" cy="264600"/>
            <a:chOff x="6412680" y="1429560"/>
            <a:chExt cx="195120" cy="264600"/>
          </a:xfrm>
        </p:grpSpPr>
        <p:sp>
          <p:nvSpPr>
            <p:cNvPr id="138" name=""/>
            <p:cNvSpPr/>
            <p:nvPr/>
          </p:nvSpPr>
          <p:spPr>
            <a:xfrm flipV="1">
              <a:off x="6457320" y="1429560"/>
              <a:ext cx="15048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5603000">
              <a:off x="6411240" y="1639080"/>
              <a:ext cx="57240" cy="45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46920" y="12193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인칭주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743520" y="1265400"/>
            <a:ext cx="246240" cy="364680"/>
            <a:chOff x="6743520" y="1265400"/>
            <a:chExt cx="246240" cy="364680"/>
          </a:xfrm>
        </p:grpSpPr>
        <p:sp>
          <p:nvSpPr>
            <p:cNvPr id="142" name=""/>
            <p:cNvSpPr/>
            <p:nvPr/>
          </p:nvSpPr>
          <p:spPr>
            <a:xfrm flipH="1">
              <a:off x="6743520" y="1353240"/>
              <a:ext cx="18684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4635600">
              <a:off x="6913080" y="127872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112880" y="12952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인칭주어의 위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01840" y="1926360"/>
            <a:ext cx="416880" cy="140040"/>
            <a:chOff x="6801840" y="1926360"/>
            <a:chExt cx="416880" cy="140040"/>
          </a:xfrm>
        </p:grpSpPr>
        <p:sp>
          <p:nvSpPr>
            <p:cNvPr id="146" name=""/>
            <p:cNvSpPr/>
            <p:nvPr/>
          </p:nvSpPr>
          <p:spPr>
            <a:xfrm flipV="1">
              <a:off x="6892920" y="1926360"/>
              <a:ext cx="325800" cy="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8024000">
              <a:off x="6809040" y="198720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634440" y="1736640"/>
            <a:ext cx="7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질문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의문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77080" y="2051280"/>
            <a:ext cx="419040" cy="132480"/>
            <a:chOff x="6877080" y="2051280"/>
            <a:chExt cx="419040" cy="132480"/>
          </a:xfrm>
        </p:grpSpPr>
        <p:sp>
          <p:nvSpPr>
            <p:cNvPr id="150" name=""/>
            <p:cNvSpPr/>
            <p:nvPr/>
          </p:nvSpPr>
          <p:spPr>
            <a:xfrm flipH="1">
              <a:off x="6877080" y="2116440"/>
              <a:ext cx="327240" cy="6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7296000">
              <a:off x="7211880" y="206928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762960" y="2209680"/>
            <a:ext cx="84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의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평서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063200" y="2681640"/>
            <a:ext cx="351720" cy="262080"/>
            <a:chOff x="7063200" y="2681640"/>
            <a:chExt cx="351720" cy="262080"/>
          </a:xfrm>
        </p:grpSpPr>
        <p:sp>
          <p:nvSpPr>
            <p:cNvPr id="154" name=""/>
            <p:cNvSpPr/>
            <p:nvPr/>
          </p:nvSpPr>
          <p:spPr>
            <a:xfrm>
              <a:off x="7148880" y="2741760"/>
              <a:ext cx="266040" cy="20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1024600">
              <a:off x="7067520" y="268740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392600" y="2575080"/>
            <a:ext cx="88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질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항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조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607800" y="2539440"/>
            <a:ext cx="347400" cy="266400"/>
            <a:chOff x="6607800" y="2539440"/>
            <a:chExt cx="347400" cy="266400"/>
          </a:xfrm>
        </p:grpSpPr>
        <p:sp>
          <p:nvSpPr>
            <p:cNvPr id="158" name=""/>
            <p:cNvSpPr/>
            <p:nvPr/>
          </p:nvSpPr>
          <p:spPr>
            <a:xfrm flipH="1" flipV="1">
              <a:off x="6607800" y="2539440"/>
              <a:ext cx="26280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278000">
              <a:off x="6874560" y="273960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48520" y="2590920"/>
            <a:ext cx="70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검색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항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108400" y="2921400"/>
            <a:ext cx="178560" cy="405360"/>
            <a:chOff x="5108400" y="2921400"/>
            <a:chExt cx="178560" cy="405360"/>
          </a:xfrm>
        </p:grpSpPr>
        <p:sp>
          <p:nvSpPr>
            <p:cNvPr id="162" name=""/>
            <p:cNvSpPr/>
            <p:nvPr/>
          </p:nvSpPr>
          <p:spPr>
            <a:xfrm flipH="1">
              <a:off x="5108400" y="3016440"/>
              <a:ext cx="123480" cy="31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892800">
              <a:off x="5204880" y="293832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420440" y="28954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항목검색 안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779080" y="2750040"/>
            <a:ext cx="328680" cy="284400"/>
            <a:chOff x="5779080" y="2750040"/>
            <a:chExt cx="328680" cy="284400"/>
          </a:xfrm>
        </p:grpSpPr>
        <p:sp>
          <p:nvSpPr>
            <p:cNvPr id="166" name=""/>
            <p:cNvSpPr/>
            <p:nvPr/>
          </p:nvSpPr>
          <p:spPr>
            <a:xfrm>
              <a:off x="5859720" y="2810880"/>
              <a:ext cx="24804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1312000">
              <a:off x="5781240" y="2752920"/>
              <a:ext cx="7596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467320" y="2819520"/>
            <a:ext cx="84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인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의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평서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항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352640" y="3992400"/>
            <a:ext cx="381960" cy="221400"/>
            <a:chOff x="7352640" y="3992400"/>
            <a:chExt cx="381960" cy="221400"/>
          </a:xfrm>
        </p:grpSpPr>
        <p:sp>
          <p:nvSpPr>
            <p:cNvPr id="170" name=""/>
            <p:cNvSpPr/>
            <p:nvPr/>
          </p:nvSpPr>
          <p:spPr>
            <a:xfrm>
              <a:off x="7443360" y="4050720"/>
              <a:ext cx="291240" cy="1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548200">
              <a:off x="7359840" y="4002480"/>
              <a:ext cx="7596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73240" y="3733920"/>
            <a:ext cx="71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_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설렁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la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144120" y="4063320"/>
            <a:ext cx="174240" cy="407160"/>
            <a:chOff x="6144120" y="4063320"/>
            <a:chExt cx="174240" cy="407160"/>
          </a:xfrm>
        </p:grpSpPr>
        <p:sp>
          <p:nvSpPr>
            <p:cNvPr id="174" name=""/>
            <p:cNvSpPr/>
            <p:nvPr/>
          </p:nvSpPr>
          <p:spPr>
            <a:xfrm flipV="1">
              <a:off x="6199200" y="4063320"/>
              <a:ext cx="119160" cy="31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4644800">
              <a:off x="6149880" y="439236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853240" y="4013280"/>
            <a:ext cx="40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처리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대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434280" y="4132080"/>
            <a:ext cx="126720" cy="422280"/>
            <a:chOff x="6434280" y="4132080"/>
            <a:chExt cx="126720" cy="422280"/>
          </a:xfrm>
        </p:grpSpPr>
        <p:sp>
          <p:nvSpPr>
            <p:cNvPr id="178" name=""/>
            <p:cNvSpPr/>
            <p:nvPr/>
          </p:nvSpPr>
          <p:spPr>
            <a:xfrm flipH="1">
              <a:off x="6434280" y="4229280"/>
              <a:ext cx="76320" cy="32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3378000">
              <a:off x="6476400" y="4150080"/>
              <a:ext cx="7596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615000" y="4165560"/>
            <a:ext cx="40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처리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대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730120" y="5320440"/>
            <a:ext cx="281520" cy="331560"/>
            <a:chOff x="5730120" y="5320440"/>
            <a:chExt cx="281520" cy="331560"/>
          </a:xfrm>
        </p:grpSpPr>
        <p:sp>
          <p:nvSpPr>
            <p:cNvPr id="182" name=""/>
            <p:cNvSpPr/>
            <p:nvPr/>
          </p:nvSpPr>
          <p:spPr>
            <a:xfrm flipH="1">
              <a:off x="5730120" y="5401800"/>
              <a:ext cx="22104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074200">
              <a:off x="5939640" y="5330520"/>
              <a:ext cx="7596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46120" y="5404680"/>
            <a:ext cx="297000" cy="315000"/>
            <a:chOff x="5946120" y="5404680"/>
            <a:chExt cx="297000" cy="315000"/>
          </a:xfrm>
        </p:grpSpPr>
        <p:sp>
          <p:nvSpPr>
            <p:cNvPr id="185" name=""/>
            <p:cNvSpPr/>
            <p:nvPr/>
          </p:nvSpPr>
          <p:spPr>
            <a:xfrm flipV="1">
              <a:off x="6006960" y="5404680"/>
              <a:ext cx="23616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088400">
              <a:off x="5939640" y="564984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167080" y="5241960"/>
            <a:ext cx="75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처리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by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문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32600" y="5486400"/>
            <a:ext cx="59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종성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fal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958440" y="5231520"/>
            <a:ext cx="408600" cy="170280"/>
            <a:chOff x="6958440" y="5231520"/>
            <a:chExt cx="408600" cy="170280"/>
          </a:xfrm>
        </p:grpSpPr>
        <p:sp>
          <p:nvSpPr>
            <p:cNvPr id="190" name=""/>
            <p:cNvSpPr/>
            <p:nvPr/>
          </p:nvSpPr>
          <p:spPr>
            <a:xfrm>
              <a:off x="7053840" y="5285880"/>
              <a:ext cx="31320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007000">
              <a:off x="6967800" y="524520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293240" y="5089680"/>
            <a:ext cx="11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종성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lag ,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처리될 조사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06160" y="5417640"/>
            <a:ext cx="407880" cy="171720"/>
            <a:chOff x="6806160" y="5417640"/>
            <a:chExt cx="407880" cy="171720"/>
          </a:xfrm>
        </p:grpSpPr>
        <p:sp>
          <p:nvSpPr>
            <p:cNvPr id="194" name=""/>
            <p:cNvSpPr/>
            <p:nvPr/>
          </p:nvSpPr>
          <p:spPr>
            <a:xfrm flipH="1" flipV="1">
              <a:off x="6806160" y="5417640"/>
              <a:ext cx="31284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9225000">
              <a:off x="7128000" y="551448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919920" y="5537160"/>
            <a:ext cx="40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처리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조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94" idx="2"/>
            <a:endCxn id="107" idx="1"/>
          </p:cNvCxnSpPr>
          <p:nvPr/>
        </p:nvCxnSpPr>
        <p:spPr>
          <a:xfrm>
            <a:off x="5028840" y="4512960"/>
            <a:ext cx="686520" cy="440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98" name=""/>
          <p:cNvGrpSpPr/>
          <p:nvPr/>
        </p:nvGrpSpPr>
        <p:grpSpPr>
          <a:xfrm>
            <a:off x="4336560" y="4728600"/>
            <a:ext cx="318240" cy="293400"/>
            <a:chOff x="4336560" y="4728600"/>
            <a:chExt cx="318240" cy="293400"/>
          </a:xfrm>
        </p:grpSpPr>
        <p:sp>
          <p:nvSpPr>
            <p:cNvPr id="199" name=""/>
            <p:cNvSpPr/>
            <p:nvPr/>
          </p:nvSpPr>
          <p:spPr>
            <a:xfrm flipH="1">
              <a:off x="4336560" y="4804920"/>
              <a:ext cx="253800" cy="2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559000">
              <a:off x="4584240" y="473760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565160" y="4807440"/>
            <a:ext cx="318240" cy="293400"/>
            <a:chOff x="4565160" y="4807440"/>
            <a:chExt cx="318240" cy="293400"/>
          </a:xfrm>
        </p:grpSpPr>
        <p:sp>
          <p:nvSpPr>
            <p:cNvPr id="202" name=""/>
            <p:cNvSpPr/>
            <p:nvPr/>
          </p:nvSpPr>
          <p:spPr>
            <a:xfrm flipV="1">
              <a:off x="4629600" y="4807440"/>
              <a:ext cx="253800" cy="2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59000">
              <a:off x="4559040" y="503064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862520" y="4851360"/>
            <a:ext cx="40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처리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항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2560" y="457200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항목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92600" y="2619000"/>
            <a:ext cx="189360" cy="400320"/>
            <a:chOff x="2892600" y="2619000"/>
            <a:chExt cx="189360" cy="400320"/>
          </a:xfrm>
        </p:grpSpPr>
        <p:sp>
          <p:nvSpPr>
            <p:cNvPr id="207" name=""/>
            <p:cNvSpPr/>
            <p:nvPr/>
          </p:nvSpPr>
          <p:spPr>
            <a:xfrm flipH="1">
              <a:off x="2892600" y="2713320"/>
              <a:ext cx="13320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4005600">
              <a:off x="3000600" y="2635560"/>
              <a:ext cx="76320" cy="6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176640" y="13716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질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m3 / design by forhum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04B-40E3-4846-B607-D25CDA9AB0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447920" y="1066680"/>
            <a:ext cx="6553080" cy="5123160"/>
            <a:chOff x="1447920" y="1066680"/>
            <a:chExt cx="6553080" cy="5123160"/>
          </a:xfrm>
        </p:grpSpPr>
        <p:sp>
          <p:nvSpPr>
            <p:cNvPr id="211" name=""/>
            <p:cNvSpPr/>
            <p:nvPr/>
          </p:nvSpPr>
          <p:spPr>
            <a:xfrm>
              <a:off x="1447920" y="1066680"/>
              <a:ext cx="6553080" cy="51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조건</a:t>
              </a: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항목명</a:t>
              </a: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*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항목의 구분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조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@  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아무데나 일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!  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왼쪽부분 일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오른쪽부분 일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항목의 배열순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*@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*@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*@[3]      //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인칭구분항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*&amp;[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질문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]   //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의문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평서 구분항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*@[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폭언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]   //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폭언 구분항목 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--&gt; 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기분값을 내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*@[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칭찬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]   // 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칭찬 구분항목 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--&gt; 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기분값을 높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*@[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썰렁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]   //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썰렁한 말을 했는지 않했는지 구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*@[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기타항목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828800" y="1905120"/>
              <a:ext cx="533520" cy="1371600"/>
              <a:chOff x="1828800" y="1905120"/>
              <a:chExt cx="533520" cy="1371600"/>
            </a:xfrm>
          </p:grpSpPr>
          <p:sp>
            <p:nvSpPr>
              <p:cNvPr id="213" name=""/>
              <p:cNvSpPr/>
              <p:nvPr/>
            </p:nvSpPr>
            <p:spPr>
              <a:xfrm>
                <a:off x="1905120" y="2743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05120" y="2971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05120" y="3276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828800" y="1905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1853280" y="34596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1.dat</a:t>
            </a:r>
            <a:r>
              <a:rPr b="1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화일의 구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m3 / design by forhum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6B0-BD0D-48FC-85EE-945D1113C4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56840" y="1339920"/>
            <a:ext cx="501300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*[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인칭조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항목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연사자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항목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2],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서술어조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기분상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연산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| --&gt; or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연산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amp; --&gt; and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연산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항목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있을 경우 항목간에 논리 연산을 수행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ata2.dat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의 대답 항목의 기호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$ --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람이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# --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컴퓨터이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% --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항목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해당하는 단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%2 --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항목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해당하는 단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조사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]  --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컴퓨터가 자동으로 합성하는 문장에 가변적으로 변하는 단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따라서 적절한 조사를 붙여주기 위해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[]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해야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76960" y="45720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2.dat</a:t>
            </a:r>
            <a:r>
              <a:rPr b="1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화일의 구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m3 / design by forhum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A3D-66FC-40BB-83A7-A4CF7B9CB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371600" y="436680"/>
            <a:ext cx="5763240" cy="5493240"/>
            <a:chOff x="1371600" y="436680"/>
            <a:chExt cx="5763240" cy="5493240"/>
          </a:xfrm>
        </p:grpSpPr>
        <p:sp>
          <p:nvSpPr>
            <p:cNvPr id="221" name=""/>
            <p:cNvSpPr/>
            <p:nvPr/>
          </p:nvSpPr>
          <p:spPr>
            <a:xfrm>
              <a:off x="2193480" y="1119240"/>
              <a:ext cx="4941360" cy="48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나는</a:t>
              </a: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ko-K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강아지</a:t>
              </a: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가 </a:t>
              </a:r>
              <a:r>
                <a:rPr b="1" lang="ko-K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좋다</a:t>
              </a: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1</a:t>
              </a:r>
              <a:r>
                <a:rPr b="0" lang="ko-KR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인칭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ko-KR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동물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ko-KR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종아함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--&gt;   data1.dat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에서 인식을 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//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사용자가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인칭으로 묻고 입력한 문장중에 동물에 관한 항목이 있고 술어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//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좋음나타내는 단어가 포함되면 조건을 만족한다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*[1][</a:t>
              </a: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동물</a:t>
              </a: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]&amp;[</a:t>
              </a: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좋아함</a:t>
              </a: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왜그렇게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%[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을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좋아하니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에 올수 있는 단어는 가변적이고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단어의 마지막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종성이 있을 경우와 없을 경우에 올수 있는 조사는 달라진다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이경우를 대비해서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[]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안에 적당한 조사를 넣어주면 자동으로 적절한 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사를 달아준다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위의 경우는 강아지가 되는데 종성이 없으므로 조사가 를 이 와야 한다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따라서 아래 문장처럼 출력을 한다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Times New Roman"/>
                </a:rPr>
                <a:t>최종합성된 문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왜그렇게 강아지를 좋아하니</a:t>
              </a:r>
              <a:r>
                <a:rPr b="0" lang="ko-KR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2720" y="436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사용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1447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7400" y="1447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95480" y="1447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082960" y="3429000"/>
            <a:ext cx="355320" cy="152280"/>
          </a:xfrm>
          <a:custGeom>
            <a:avLst/>
            <a:gdLst/>
            <a:ahLst/>
            <a:rect l="l" t="t" r="r" b="b"/>
            <a:pathLst>
              <a:path w="224" h="56">
                <a:moveTo>
                  <a:pt x="32" y="0"/>
                </a:moveTo>
                <a:cubicBezTo>
                  <a:pt x="16" y="20"/>
                  <a:pt x="0" y="40"/>
                  <a:pt x="32" y="48"/>
                </a:cubicBezTo>
                <a:cubicBezTo>
                  <a:pt x="64" y="56"/>
                  <a:pt x="192" y="56"/>
                  <a:pt x="22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m3 / design by forhum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90A-BB5F-44A3-B512-A265A28999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76960" y="45720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3.dat</a:t>
            </a:r>
            <a:r>
              <a:rPr b="1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화일의 구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16200" y="1066680"/>
            <a:ext cx="506340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ata3.dat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의 대답 항목의 기호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$ --&gt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사람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# --&gt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컴퓨터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조사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]  --&gt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컴퓨터가 자동으로 합성하는 문장에 가변적으로 변하는 단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에 따라서 적절한 조사를 붙여주기 위해서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[]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를 해야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{} --&gt; {}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안의 분류항목 이름에 해당하는 아무항목이나 적절히 조합을 해준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00  --&gt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아래문장의 개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$[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너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동물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하고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동물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중 어느게 좋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?   ---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#[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은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] $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씨가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식물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[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과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] {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동물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중 어느것을 더 좋아하는지 궁금해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 --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생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위의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의 문장은 아래처럼 바뀌어져 나온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 --&gt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사람아 너 개하고 소중 어느게 좋아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2 --&gt;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아이는 사람씨가 배추와 강아지중 어느것을 더 좋아하는지 궁금해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m3 / design by forhum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4FE-4C67-47A9-8C8D-16641ED20E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3T03:28:18Z</dcterms:created>
  <dc:creator>최성운</dc:creator>
  <dc:description/>
  <dc:language>en-US</dc:language>
  <cp:lastModifiedBy>최성운</cp:lastModifiedBy>
  <dcterms:modified xsi:type="dcterms:W3CDTF">1998-12-03T03:39:10Z</dcterms:modified>
  <cp:revision>2</cp:revision>
  <dc:subject/>
  <dc:title>슬라이드 제목 없음</dc:title>
</cp:coreProperties>
</file>